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2F25-4739-411D-865D-CE61029A0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6743-8150-45E2-9548-DEBBA7D85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DF0F-A3EF-4350-ADBE-4CA9EE63D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2502-999D-486D-9191-315AF2D2B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A13B-29C0-4245-8DE1-8DA99FA0C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DDC9-C597-4743-8CA7-8D2332E8A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9F92-AFDC-4037-BF5F-1717E018C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0B7B-3B89-41CF-8BE3-49C787650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AA5A-5D67-4D24-920A-A22555DDA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1A56-6C5D-4AC3-9D87-5E594523E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DF0C-303E-4C8D-BC4C-3ED9A6D4F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FDB8-2347-4763-8580-AE60838A4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40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édric Bertho   -   Comparaison entr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C92A-4D06-42B3-A064-59C7C95EE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2/10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520" y="35812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g10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4056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sm_perl_id_bk_wt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85436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ar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6571-9190-4D90-920D-C4BFD51B4A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685800"/>
            <a:ext cx="723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filename = "cooktest1.1-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 (F, $filename) or die ("can't open $filename: $!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@lines = &lt;F&gt;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23924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ilename = "cooktest1.1-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 = open (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xcep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ys.stderr.write ("can't open %s: %s %s\n"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filename, sys.exc_type, sys.exc_valu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lines = f.readlin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F611-3CAB-40F0-92AD-A12F3AE84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quel choisi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approprié  aux  débutants  en 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05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urs  familiers  du  C,  Sed,  Awk  ou  des  commande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81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 programmation  orientée  objet  et  les  gros 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971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de chaînes de caractères et les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grand  support  actuel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8BDF-B57A-40E4-BB11-890FE5BBC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urces - réfé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zop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buzz.builder.com/cgi-bin/WebX?14@133.uWaUauuNrDb^1@.ee7bc67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byte.com/printableArticle?doc_id=BYT20000201S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python.org/doc/Comparis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24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starship.python.net/~da/jak/cookbook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culte.org/projets/doc/scripting.s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E0EF-3919-4D47-AFAE-2C23F9DB87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gines  de  Perl  et 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438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 quoi  servent-il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similitud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différenc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95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 d’util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quel  choisi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4A59-70C2-430D-A117-AC2C5AE9F1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rigines d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yth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655308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90  par  Guido  van  Ros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projet  Amo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  issu  des  Monthy  Python’s  Flying 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86200"/>
            <a:ext cx="65530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87  par  Larr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traitement  de  chaînes de caractères  sou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actical  Extraction  and  Report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6DE6-F933-4D3F-9A82-8BA7A443E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 quoi servent-il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  rapide  de  diverses  tâches  courantes  telles  que  des  scripts d ’administration système, analyse de fichiers textue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age  rapide  d’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s  avec  d’autres  programmes  (C, Jav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rogation  de  bases  de 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ation  Internet, Common  Gateway 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 d’images,  interfaces  graphiques (avec  modules  et  bibliothè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C429-7675-44EE-AA2C-FE7954782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similitud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atuits,  portables  et  Open 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60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s  « interactifs » et  interprétés  évol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59884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ion  procédurale  ou  orientée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3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èdent  de  fortes  communautés  de 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ent  de  nombreux  modules  et  bibliothèques 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22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-plateformes  (Unix, Windows, BeOs,  MacOS, Amig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35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ort  de  structures  de  données  riches  et  dynamiques (listes, hashtabl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86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1A31-5493-4137-9D54-B5CB2C62EF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 est  plus  gros,  mais  Python  grossit  plus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entation  objet :  native  pour  Python,  superficielle  pour 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971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 « There ’s more than one way to do i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de Python : plus constante et uniforme,  voir 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 « Life’s better without brac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8560-A2AD-4084-85B5-79D5B997C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mp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5000" cy="451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ison of Six XML Parsers Processing Each Tes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4AF1-516B-4812-ABF3-5E2B43F12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696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(split(/:/, $ENV{'PATH'}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dir(DIR, $_) or die "can't opendir $_: $!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grep {!/^\./ &amp;&amp; print "$_\n" } readdir(DI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osedir DI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os, string,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d in string.split(os.environ['PATH'], ':'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f in os.listdir(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e = os.lstat(d + '/' + f)[stat.ST_MOD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f not stat.S_ISDIR(mo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int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E87C-EBE0-438A-B564-0B8BF637B1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ythonwi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02640" cy="58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379B-E809-4C7E-9340-2B948AA66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15:11:22Z</dcterms:created>
  <dc:creator>Ced</dc:creator>
  <dc:description/>
  <dc:language>en-US</dc:language>
  <cp:lastModifiedBy>Ced</cp:lastModifiedBy>
  <dcterms:modified xsi:type="dcterms:W3CDTF">2000-10-11T22:29:03Z</dcterms:modified>
  <cp:revision>20</cp:revision>
  <dc:subject/>
  <dc:title>vs</dc:title>
</cp:coreProperties>
</file>