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28F0-50B4-4674-90CF-8EA5C5B3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5AED-F39A-4D64-A7E3-A873B580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5E2F-E1B7-406A-BD98-58C22CBF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635-86C4-465A-9EA8-CBB233EA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0926-C1C0-4D0A-A127-060D3B67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53C7-29CC-4F38-AA51-EC7469A4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A61F-B159-4CA3-AB28-DC6B4D51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ED0B-B62C-48D4-BE35-0BA7B3A6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AA1A-B6B0-4F47-8A81-7F6DCCE2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690C-BD0B-4CE9-ADD1-FC8F5BEC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304D-7109-449B-90AC-9D6529E6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3FC-2096-45E3-AF4C-5DE75289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0B04-FDFC-4F9E-8DF2-95220B5F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367E-6E93-42D7-98C3-CAF0EC4E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3C07-B345-49CC-B83E-27D8E203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B2E2-3E37-4C24-B2A5-65873112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BA8A-1FA6-4896-845C-60F1BE53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91D-9530-4BFD-8F0C-15A97FCF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0B9-8E74-4DCE-9E4B-FC9D5E24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561-0C3D-43FE-B3D5-45207B6D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068-3F0F-4D1D-B58E-0C1A8AEA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AFA-CE89-4073-9BBD-C531A768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98D-E49A-4A3B-9B0F-FF589C84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FDDA-7737-492F-B7E7-AA662A1E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6453-9A9D-4EE5-B6C8-AF769157D0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5" name="ACTIVEX" descr=""/>
          <p:cNvPicPr/>
          <p:nvPr/>
        </p:nvPicPr>
        <p:blipFill>
          <a:blip r:embed="rId3"/>
          <a:stretch/>
        </p:blipFill>
        <p:spPr>
          <a:xfrm>
            <a:off x="990720" y="1282680"/>
            <a:ext cx="7467480" cy="4356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7201-5316-47D4-83E1-81B5268C43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133720" y="3124080"/>
            <a:ext cx="64008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ctiveX and The We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chitecture &amp; Technical Overview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rlie Kind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chitect &amp; Chief Technical Ad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crosoft Developer Relations Grou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ACTIVEX" descr=""/>
          <p:cNvPicPr/>
          <p:nvPr/>
        </p:nvPicPr>
        <p:blipFill>
          <a:blip r:embed="rId1"/>
          <a:stretch/>
        </p:blipFill>
        <p:spPr>
          <a:xfrm>
            <a:off x="932040" y="438120"/>
            <a:ext cx="242064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OM Architecture</a:t>
            </a:r>
            <a:br>
              <a:rPr sz="4000"/>
            </a:b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A scalable programming mod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302436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47242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0040" y="193212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867360" y="1571760"/>
            <a:ext cx="1432080" cy="1027080"/>
          </a:xfrm>
          <a:prstGeom prst="cube">
            <a:avLst>
              <a:gd name="adj" fmla="val 12495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3040" y="1968480"/>
            <a:ext cx="253800" cy="254160"/>
          </a:xfrm>
          <a:prstGeom prst="ellipse">
            <a:avLst/>
          </a:prstGeom>
          <a:gradFill rotWithShape="0">
            <a:gsLst>
              <a:gs pos="0">
                <a:srgbClr val="14d3c1"/>
              </a:gs>
              <a:gs pos="100000">
                <a:srgbClr val="053e3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582960" y="2114640"/>
            <a:ext cx="351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208584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240" y="1434960"/>
            <a:ext cx="375264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same pro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, direct function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96520" y="367344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172280" y="3313080"/>
            <a:ext cx="1432080" cy="1027080"/>
          </a:xfrm>
          <a:prstGeom prst="cube">
            <a:avLst>
              <a:gd name="adj" fmla="val 12495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7960" y="3710160"/>
            <a:ext cx="253800" cy="253800"/>
          </a:xfrm>
          <a:prstGeom prst="ellipse">
            <a:avLst/>
          </a:prstGeom>
          <a:gradFill rotWithShape="0">
            <a:gsLst>
              <a:gs pos="0">
                <a:srgbClr val="14d3c1"/>
              </a:gs>
              <a:gs pos="100000">
                <a:srgbClr val="053e3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888240" y="3855960"/>
            <a:ext cx="35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3827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15000" y="4167360"/>
            <a:ext cx="154080" cy="458640"/>
          </a:xfrm>
          <a:custGeom>
            <a:avLst/>
            <a:gdLst/>
            <a:ahLst/>
            <a:rect l="l" t="t" r="r" b="b"/>
            <a:pathLst>
              <a:path w="97" h="289">
                <a:moveTo>
                  <a:pt x="96" y="288"/>
                </a:moveTo>
                <a:lnTo>
                  <a:pt x="96" y="48"/>
                </a:lnTo>
                <a:lnTo>
                  <a:pt x="0" y="0"/>
                </a:lnTo>
                <a:lnTo>
                  <a:pt x="0" y="240"/>
                </a:lnTo>
                <a:lnTo>
                  <a:pt x="96" y="288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343480" y="3487680"/>
            <a:ext cx="898560" cy="749520"/>
          </a:xfrm>
          <a:prstGeom prst="cube">
            <a:avLst>
              <a:gd name="adj" fmla="val 12495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3100320"/>
            <a:ext cx="154080" cy="459000"/>
          </a:xfrm>
          <a:custGeom>
            <a:avLst/>
            <a:gdLst/>
            <a:ahLst/>
            <a:rect l="l" t="t" r="r" b="b"/>
            <a:pathLst>
              <a:path w="97" h="289">
                <a:moveTo>
                  <a:pt x="96" y="288"/>
                </a:moveTo>
                <a:lnTo>
                  <a:pt x="96" y="48"/>
                </a:lnTo>
                <a:lnTo>
                  <a:pt x="0" y="0"/>
                </a:lnTo>
                <a:lnTo>
                  <a:pt x="0" y="240"/>
                </a:lnTo>
                <a:lnTo>
                  <a:pt x="96" y="288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3827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1520" y="3112920"/>
            <a:ext cx="1247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lient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6560" y="3114720"/>
            <a:ext cx="1300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rver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557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348156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9520" y="3176640"/>
            <a:ext cx="375300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the same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, secure I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9520" y="4883040"/>
            <a:ext cx="375300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ross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, reliable and flexi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CE-RPC bas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C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6102360"/>
            <a:ext cx="154080" cy="458640"/>
          </a:xfrm>
          <a:custGeom>
            <a:avLst/>
            <a:gdLst/>
            <a:ahLst/>
            <a:rect l="l" t="t" r="r" b="b"/>
            <a:pathLst>
              <a:path w="97" h="289">
                <a:moveTo>
                  <a:pt x="96" y="288"/>
                </a:moveTo>
                <a:lnTo>
                  <a:pt x="96" y="48"/>
                </a:lnTo>
                <a:lnTo>
                  <a:pt x="0" y="0"/>
                </a:lnTo>
                <a:lnTo>
                  <a:pt x="0" y="240"/>
                </a:lnTo>
                <a:lnTo>
                  <a:pt x="96" y="288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952240" y="5346720"/>
            <a:ext cx="746280" cy="749160"/>
          </a:xfrm>
          <a:prstGeom prst="cube">
            <a:avLst>
              <a:gd name="adj" fmla="val 12495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495760" y="5270400"/>
            <a:ext cx="594000" cy="901800"/>
          </a:xfrm>
          <a:prstGeom prst="cube">
            <a:avLst>
              <a:gd name="adj" fmla="val 17194"/>
            </a:avLst>
          </a:prstGeom>
          <a:blipFill rotWithShape="0">
            <a:blip r:embed="rId5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9320" y="553248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46040" y="4897440"/>
            <a:ext cx="1315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rver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77240" y="4898880"/>
            <a:ext cx="1262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809240" y="5346720"/>
            <a:ext cx="746280" cy="749160"/>
          </a:xfrm>
          <a:prstGeom prst="cube">
            <a:avLst>
              <a:gd name="adj" fmla="val 12495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5686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4883040"/>
            <a:ext cx="154080" cy="459000"/>
          </a:xfrm>
          <a:custGeom>
            <a:avLst/>
            <a:gdLst/>
            <a:ahLst/>
            <a:rect l="l" t="t" r="r" b="b"/>
            <a:pathLst>
              <a:path w="97" h="289">
                <a:moveTo>
                  <a:pt x="96" y="288"/>
                </a:moveTo>
                <a:lnTo>
                  <a:pt x="96" y="48"/>
                </a:lnTo>
                <a:lnTo>
                  <a:pt x="0" y="0"/>
                </a:lnTo>
                <a:lnTo>
                  <a:pt x="0" y="240"/>
                </a:lnTo>
                <a:lnTo>
                  <a:pt x="96" y="288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51879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52642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629480" y="5172120"/>
            <a:ext cx="1432080" cy="1027080"/>
          </a:xfrm>
          <a:prstGeom prst="cube">
            <a:avLst>
              <a:gd name="adj" fmla="val 12495"/>
            </a:avLst>
          </a:prstGeom>
          <a:blipFill rotWithShape="0">
            <a:blip r:embed="rId7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85160" y="5568840"/>
            <a:ext cx="253800" cy="254160"/>
          </a:xfrm>
          <a:prstGeom prst="ellipse">
            <a:avLst/>
          </a:prstGeom>
          <a:gradFill rotWithShape="0">
            <a:gsLst>
              <a:gs pos="0">
                <a:srgbClr val="14d3c1"/>
              </a:gs>
              <a:gs pos="100000">
                <a:srgbClr val="053e3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345440" y="5715000"/>
            <a:ext cx="35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56865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959360" y="1819440"/>
            <a:ext cx="3949560" cy="372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5080" y="1819440"/>
            <a:ext cx="3949560" cy="440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4360" y="502920"/>
            <a:ext cx="885528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/DCOM</a:t>
            </a:r>
            <a:br>
              <a:rPr sz="4000"/>
            </a:br>
            <a:r>
              <a:rPr b="0" i="1" lang="en-US" sz="2800" spc="-1" strike="noStrike">
                <a:solidFill>
                  <a:srgbClr val="808000"/>
                </a:solidFill>
                <a:latin typeface="Arial Black"/>
              </a:rPr>
              <a:t>Lets ActiveX components run anywhe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/>
          <p:nvPr/>
        </p:nvSpPr>
        <p:spPr>
          <a:xfrm rot="10800000">
            <a:off x="3641040" y="3948120"/>
            <a:ext cx="21632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" y="9452"/>
                </a:moveTo>
                <a:arcTo wR="10800" hR="10800" stAng="-10369687" swAng="9738495"/>
                <a:lnTo>
                  <a:pt x="10800" y="10800"/>
                </a:lnTo>
                <a:close/>
              </a:path>
              <a:path fill="none" w="21600" h="21600">
                <a:moveTo>
                  <a:pt x="84" y="9452"/>
                </a:moveTo>
                <a:arcTo wR="10800" hR="10800" stAng="-10369687" swAng="9738495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495680" y="4861080"/>
            <a:ext cx="230400" cy="839520"/>
            <a:chOff x="4495680" y="4861080"/>
            <a:chExt cx="230400" cy="839520"/>
          </a:xfrm>
        </p:grpSpPr>
        <p:sp>
          <p:nvSpPr>
            <p:cNvPr id="218" name=""/>
            <p:cNvSpPr/>
            <p:nvPr/>
          </p:nvSpPr>
          <p:spPr>
            <a:xfrm>
              <a:off x="4495680" y="4861080"/>
              <a:ext cx="154080" cy="839520"/>
            </a:xfrm>
            <a:custGeom>
              <a:avLst/>
              <a:gdLst/>
              <a:ahLst/>
              <a:rect l="l" t="t" r="r" b="b"/>
              <a:pathLst>
                <a:path w="97" h="529">
                  <a:moveTo>
                    <a:pt x="96" y="0"/>
                  </a:moveTo>
                  <a:lnTo>
                    <a:pt x="96" y="240"/>
                  </a:lnTo>
                  <a:lnTo>
                    <a:pt x="0" y="144"/>
                  </a:lnTo>
                  <a:lnTo>
                    <a:pt x="0" y="5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4861080"/>
              <a:ext cx="154080" cy="839520"/>
            </a:xfrm>
            <a:custGeom>
              <a:avLst/>
              <a:gdLst/>
              <a:ahLst/>
              <a:rect l="l" t="t" r="r" b="b"/>
              <a:pathLst>
                <a:path w="97" h="529">
                  <a:moveTo>
                    <a:pt x="96" y="0"/>
                  </a:moveTo>
                  <a:lnTo>
                    <a:pt x="96" y="336"/>
                  </a:lnTo>
                  <a:lnTo>
                    <a:pt x="0" y="240"/>
                  </a:lnTo>
                  <a:lnTo>
                    <a:pt x="0" y="5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 rot="16200000">
            <a:off x="4100400" y="3877200"/>
            <a:ext cx="89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4556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62480" y="3263760"/>
            <a:ext cx="2960640" cy="1055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a4623"/>
              </a:gs>
              <a:gs pos="5000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te object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ser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0800000">
            <a:off x="3886560" y="2498760"/>
            <a:ext cx="18367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10378793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10378793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538520" y="2117880"/>
            <a:ext cx="235080" cy="839520"/>
            <a:chOff x="4538520" y="2117880"/>
            <a:chExt cx="235080" cy="839520"/>
          </a:xfrm>
        </p:grpSpPr>
        <p:sp>
          <p:nvSpPr>
            <p:cNvPr id="225" name=""/>
            <p:cNvSpPr/>
            <p:nvPr/>
          </p:nvSpPr>
          <p:spPr>
            <a:xfrm>
              <a:off x="4538520" y="2117880"/>
              <a:ext cx="157320" cy="839520"/>
            </a:xfrm>
            <a:custGeom>
              <a:avLst/>
              <a:gdLst/>
              <a:ahLst/>
              <a:rect l="l" t="t" r="r" b="b"/>
              <a:pathLst>
                <a:path w="99" h="529">
                  <a:moveTo>
                    <a:pt x="98" y="0"/>
                  </a:moveTo>
                  <a:lnTo>
                    <a:pt x="98" y="240"/>
                  </a:lnTo>
                  <a:lnTo>
                    <a:pt x="0" y="144"/>
                  </a:lnTo>
                  <a:lnTo>
                    <a:pt x="0" y="5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16280" y="2117880"/>
              <a:ext cx="157320" cy="839520"/>
            </a:xfrm>
            <a:custGeom>
              <a:avLst/>
              <a:gdLst/>
              <a:ahLst/>
              <a:rect l="l" t="t" r="r" b="b"/>
              <a:pathLst>
                <a:path w="99" h="529">
                  <a:moveTo>
                    <a:pt x="98" y="0"/>
                  </a:moveTo>
                  <a:lnTo>
                    <a:pt x="98" y="336"/>
                  </a:lnTo>
                  <a:lnTo>
                    <a:pt x="0" y="240"/>
                  </a:lnTo>
                  <a:lnTo>
                    <a:pt x="0" y="5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572000" y="30322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0480" y="2427120"/>
            <a:ext cx="2960640" cy="1055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a4623"/>
              </a:gs>
              <a:gs pos="5000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runn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0480" y="5018040"/>
            <a:ext cx="2960640" cy="1055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a4623"/>
              </a:gs>
              <a:gs pos="5000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runn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800000">
            <a:off x="1447920" y="3637440"/>
            <a:ext cx="1218240" cy="1226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7752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77529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1982880" y="3714840"/>
            <a:ext cx="1218600" cy="122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48" y="21515"/>
                </a:moveTo>
                <a:arcTo wR="10800" hR="10800" stAng="5831367" swAng="10359692"/>
                <a:lnTo>
                  <a:pt x="10800" y="10800"/>
                </a:lnTo>
                <a:close/>
              </a:path>
              <a:path fill="none" w="21600" h="21600">
                <a:moveTo>
                  <a:pt x="9448" y="21515"/>
                </a:moveTo>
                <a:arcTo wR="10800" hR="10800" stAng="5831367" swAng="10359692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35920" y="4083120"/>
            <a:ext cx="89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666880" y="4251240"/>
            <a:ext cx="839880" cy="230400"/>
            <a:chOff x="2666880" y="4251240"/>
            <a:chExt cx="839880" cy="230400"/>
          </a:xfrm>
        </p:grpSpPr>
        <p:sp>
          <p:nvSpPr>
            <p:cNvPr id="234" name=""/>
            <p:cNvSpPr/>
            <p:nvPr/>
          </p:nvSpPr>
          <p:spPr>
            <a:xfrm>
              <a:off x="2666880" y="425124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240" y="96"/>
                  </a:lnTo>
                  <a:lnTo>
                    <a:pt x="144" y="0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66880" y="432756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336" y="96"/>
                  </a:lnTo>
                  <a:lnTo>
                    <a:pt x="240" y="0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914400" y="4251240"/>
            <a:ext cx="839880" cy="230400"/>
            <a:chOff x="914400" y="4251240"/>
            <a:chExt cx="839880" cy="230400"/>
          </a:xfrm>
        </p:grpSpPr>
        <p:sp>
          <p:nvSpPr>
            <p:cNvPr id="237" name=""/>
            <p:cNvSpPr/>
            <p:nvPr/>
          </p:nvSpPr>
          <p:spPr>
            <a:xfrm>
              <a:off x="914400" y="425124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240" y="96"/>
                  </a:lnTo>
                  <a:lnTo>
                    <a:pt x="144" y="0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432756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336" y="96"/>
                  </a:lnTo>
                  <a:lnTo>
                    <a:pt x="240" y="0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Are ActiveX Control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s are components that can be manipulated visually by GUI development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inction between design-time and run-time user-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that makes the Web come al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able by other components and scrip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60280" y="4913280"/>
            <a:ext cx="8623440" cy="1645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b14600"/>
              </a:gs>
            </a:gsLst>
            <a:lin ang="5400000"/>
          </a:gra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IGN=CENTER CLASSID="clsid:99B42120-6EC7-11CF-A6C7-00AA00A47DD2" WIDTH=200 HEIGHT=200 ID=MyObject     CODEBASE="http://foo/bar/myoc.ocx#ver=4,70,0,1062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ARAM NAME="ScrollStyleX" VALUE="Circular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OBJEC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pping Controls To HTM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W3C &lt;OBJECT&gt;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EMBED&gt; also supported for plug-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 = name used by script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D=Globally unique identifier for the ActiveX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= Control to down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PARAM&gt; = Properties of the Contro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38120"/>
            <a:ext cx="83566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and Java</a:t>
            </a:r>
            <a:br>
              <a:rPr sz="4000"/>
            </a:br>
            <a:r>
              <a:rPr b="0" lang="en-US" sz="2800" spc="-1" strike="noStrike">
                <a:solidFill>
                  <a:srgbClr val="808000"/>
                </a:solidFill>
                <a:latin typeface="Arial Black"/>
              </a:rPr>
              <a:t>What is Java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50880" y="1568160"/>
            <a:ext cx="6042240" cy="98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machine/Byte c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557600" y="4578480"/>
            <a:ext cx="2590920" cy="1815840"/>
            <a:chOff x="4557600" y="4578480"/>
            <a:chExt cx="2590920" cy="1815840"/>
          </a:xfrm>
        </p:grpSpPr>
        <p:sp>
          <p:nvSpPr>
            <p:cNvPr id="247" name=""/>
            <p:cNvSpPr/>
            <p:nvPr/>
          </p:nvSpPr>
          <p:spPr>
            <a:xfrm>
              <a:off x="4654440" y="4578480"/>
              <a:ext cx="2425680" cy="1815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ffffff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83040" y="5264280"/>
              <a:ext cx="2044800" cy="762840"/>
            </a:xfrm>
            <a:prstGeom prst="rect">
              <a:avLst/>
            </a:prstGeom>
            <a:gradFill rotWithShape="0">
              <a:gsLst>
                <a:gs pos="0">
                  <a:srgbClr val="e45b00"/>
                </a:gs>
                <a:gs pos="50000">
                  <a:srgbClr val="ff6600"/>
                </a:gs>
                <a:gs pos="100000">
                  <a:srgbClr val="e45b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Virtual Machine (VM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57600" y="4648320"/>
              <a:ext cx="25909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Internet Brows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035000" y="2978280"/>
            <a:ext cx="2806920" cy="762840"/>
          </a:xfrm>
          <a:prstGeom prst="rect">
            <a:avLst/>
          </a:prstGeom>
          <a:gradFill rotWithShape="0">
            <a:gsLst>
              <a:gs pos="0">
                <a:srgbClr val="e45b00"/>
              </a:gs>
              <a:gs pos="50000">
                <a:srgbClr val="ff6600"/>
              </a:gs>
              <a:gs pos="100000">
                <a:srgbClr val="e45b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va Development T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342900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83040" y="2978280"/>
            <a:ext cx="2044800" cy="762840"/>
          </a:xfrm>
          <a:prstGeom prst="rect">
            <a:avLst/>
          </a:prstGeom>
          <a:gradFill rotWithShape="0">
            <a:gsLst>
              <a:gs pos="0">
                <a:srgbClr val="e45b00"/>
              </a:gs>
              <a:gs pos="50000">
                <a:srgbClr val="ff6600"/>
              </a:gs>
              <a:gs pos="100000">
                <a:srgbClr val="e45b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va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388620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360" y="503280"/>
            <a:ext cx="88552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Complements Jav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415520"/>
            <a:ext cx="8076960" cy="36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and Java DO NOT COMPET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IS a set of integration techn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Java ob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 ActiveX objec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lat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perat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ow Does Java Fit With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VM is an ActiveX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 Java applets in any application, not just brow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component is an ActiveX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integration of Java applets with other languages and scri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s Java applets talk to other Java appl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s Java applets talk to ActiveX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Java applets access to all PC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74800" y="2216160"/>
            <a:ext cx="2554200" cy="1413000"/>
          </a:xfrm>
          <a:prstGeom prst="rect">
            <a:avLst/>
          </a:prstGeom>
          <a:gradFill rotWithShape="0">
            <a:gsLst>
              <a:gs pos="0">
                <a:srgbClr val="6a4623"/>
              </a:gs>
              <a:gs pos="100000">
                <a:srgbClr val="99663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++, VB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74800" y="3862440"/>
            <a:ext cx="2554200" cy="1623960"/>
          </a:xfrm>
          <a:prstGeom prst="rect">
            <a:avLst/>
          </a:prstGeom>
          <a:gradFill rotWithShape="0">
            <a:gsLst>
              <a:gs pos="0">
                <a:srgbClr val="6a4623"/>
              </a:gs>
              <a:gs pos="100000">
                <a:srgbClr val="99663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VBScript, JScript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60680" y="3252960"/>
            <a:ext cx="2530440" cy="0"/>
          </a:xfrm>
          <a:prstGeom prst="line">
            <a:avLst/>
          </a:prstGeom>
          <a:ln w="1015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999040" y="3086280"/>
            <a:ext cx="2276640" cy="1457280"/>
            <a:chOff x="5999040" y="3086280"/>
            <a:chExt cx="2276640" cy="1457280"/>
          </a:xfrm>
        </p:grpSpPr>
        <p:sp>
          <p:nvSpPr>
            <p:cNvPr id="262" name=""/>
            <p:cNvSpPr/>
            <p:nvPr/>
          </p:nvSpPr>
          <p:spPr>
            <a:xfrm>
              <a:off x="6459480" y="3110040"/>
              <a:ext cx="1797120" cy="99684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pp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5999040" y="3086280"/>
              <a:ext cx="2276640" cy="1457280"/>
              <a:chOff x="5999040" y="3086280"/>
              <a:chExt cx="2276640" cy="1457280"/>
            </a:xfrm>
          </p:grpSpPr>
          <p:sp>
            <p:nvSpPr>
              <p:cNvPr id="264" name=""/>
              <p:cNvSpPr/>
              <p:nvPr/>
            </p:nvSpPr>
            <p:spPr>
              <a:xfrm>
                <a:off x="5999040" y="3086280"/>
                <a:ext cx="346320" cy="1457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05520" y="4205520"/>
                <a:ext cx="2270160" cy="3380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e574e"/>
                    </a:solidFill>
                    <a:latin typeface="Arial"/>
                  </a:rPr>
                  <a:t>ActiveX Java V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3478320" y="4230720"/>
            <a:ext cx="249372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82920" y="3328920"/>
            <a:ext cx="2685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ke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ow Does Java Fit With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crosoft’s Java Commit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is hard core about Java th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 Java VM for Wind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est Just-in-Time Java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J++ development t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support on th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is the best execution environment for Java app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est safest, most fun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will compete with Java the operat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aging the Risks of Downloaded Co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no absolute security guarant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-signing and sandbox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mentary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supports both to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-signing - Authenticode™, works with ActiveX controls, Java applets, plug-in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ndboxing - most secure Java VM, VB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industry is following to support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ctiveX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s of ActiveX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/DCOM, Controls, Java™ Applets, Documents, Scrip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and Internet Explorer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 the browser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usable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de-signing and Sandbox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-signing - “shrinkwraps”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publisher; validates integrity of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’t prevent bugs or malicious 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accountability for market and legal recou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ndbox - code isolated inside virtual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’t prevent bugs; limits malicious operation by limiting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st common denominator cap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es on airtight implementation, proven difficult in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4886280" y="1709640"/>
          <a:ext cx="37720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709640"/>
                    <a:ext cx="37720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thenticode™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-signing feature in Internet Explorer 3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industry standard certificates (X.50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ge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actual relationship with multiple certificate author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end users or administrators to set “trust polici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Are ActiveX Document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s users view and edit non-HTML documents through the brow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Doc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entire client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printing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u mer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lb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s existing documents into browser or any other applic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ActiveX Script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for rapid “wiring” together of diverse set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any scripting language - VBScript, JScript, Perl, PowerScript, Tck/Tk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ipting languages are the most broadly accessible develop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ipting plus HTML is the fastest and easiest cross platform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Explorer 3.0 ships with VBScript, JScript run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4440" y="502920"/>
            <a:ext cx="865512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ripting: A Simple Solution</a:t>
            </a:r>
            <a:br>
              <a:rPr sz="4000"/>
            </a:br>
            <a:r>
              <a:rPr b="0" lang="en-US" sz="2800" spc="-1" strike="noStrike">
                <a:solidFill>
                  <a:srgbClr val="808000"/>
                </a:solidFill>
                <a:latin typeface="Arial Black"/>
              </a:rPr>
              <a:t>Pioneered by Visual Basic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77600" y="2199960"/>
            <a:ext cx="7537320" cy="276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s expose events for the purpose of coordinating their activity with the rest of the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ript code can be attached to an object’s events to customize behavior - this is “scriptin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547560" y="4908600"/>
            <a:ext cx="1476360" cy="12063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3760" y="4781520"/>
            <a:ext cx="1562040" cy="156204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2560" y="4908600"/>
            <a:ext cx="4403880" cy="1189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b Button_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sgBox “Hello wor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952F-CE7C-4D2A-9C68-40C9F11A4BDB}" type="slidenum">
              <a:t>24</a:t>
            </a:fld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BScrip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, fast, and 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ipts both ActiveX Controls and Java app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 subset of Visual Basic fo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% compatible with Visual Bas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to Internet Explorer 3.0 and Windows NT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3 million users familiar with Visual Bas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-platform for easy 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lients,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censable, not just for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e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2CB3-13FD-46B4-9982-6034CFEC58F6}" type="slidenum">
              <a:t>25</a:t>
            </a:fld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Scrip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performance JavaScript-compatible script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secure than Java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 related to Java only by 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 Netscape proprietary despite public commi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Script and VBScript source licensable (free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ps with Internet Explorer 3.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8520" y="502920"/>
            <a:ext cx="8886960" cy="12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Case Study</a:t>
            </a:r>
            <a:br>
              <a:rPr sz="4000"/>
            </a:b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“Componentizing” Internet Explorer 3.0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5280" y="1966680"/>
            <a:ext cx="8353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world application - target audience 100+ million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rage PC inves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support open existing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 Microsoft and developer community forward together in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 centu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h yeah, and ship it in nine months (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419040"/>
            <a:ext cx="83566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Explorer 2.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280" y="1415880"/>
            <a:ext cx="4419720" cy="29718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573440" y="1415880"/>
            <a:ext cx="461988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417600" indent="-417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lithic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usable par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-417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backward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-417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forward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 through proprietary means (hack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5576760" y="1230480"/>
            <a:ext cx="2743200" cy="3797280"/>
            <a:chOff x="5576760" y="1230480"/>
            <a:chExt cx="2743200" cy="3797280"/>
          </a:xfrm>
        </p:grpSpPr>
        <p:sp>
          <p:nvSpPr>
            <p:cNvPr id="298" name=""/>
            <p:cNvSpPr/>
            <p:nvPr/>
          </p:nvSpPr>
          <p:spPr>
            <a:xfrm>
              <a:off x="5583240" y="1230480"/>
              <a:ext cx="2730600" cy="3797280"/>
            </a:xfrm>
            <a:prstGeom prst="rect">
              <a:avLst/>
            </a:prstGeom>
            <a:gradFill rotWithShape="0">
              <a:gsLst>
                <a:gs pos="0">
                  <a:srgbClr val="b18d00"/>
                </a:gs>
                <a:gs pos="50000">
                  <a:srgbClr val="ffcc00"/>
                </a:gs>
                <a:gs pos="100000">
                  <a:srgbClr val="b18d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76760" y="1239840"/>
              <a:ext cx="2743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ain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11840" y="3363840"/>
              <a:ext cx="2197080" cy="59688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ffice Bin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11840" y="4125960"/>
              <a:ext cx="2197080" cy="59688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osa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11840" y="1839960"/>
              <a:ext cx="2197080" cy="59688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net Explor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11840" y="2602080"/>
              <a:ext cx="2197080" cy="59688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indows She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10920" y="225000"/>
            <a:ext cx="7947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e 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"/>
          <p:cNvSpPr/>
          <p:nvPr/>
        </p:nvSpPr>
        <p:spPr>
          <a:xfrm>
            <a:off x="5811840" y="1839960"/>
            <a:ext cx="2197080" cy="59688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Internet Explo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270400" y="1687680"/>
            <a:ext cx="3657600" cy="3797280"/>
            <a:chOff x="5270400" y="1687680"/>
            <a:chExt cx="3657600" cy="3797280"/>
          </a:xfrm>
        </p:grpSpPr>
        <p:sp>
          <p:nvSpPr>
            <p:cNvPr id="307" name=""/>
            <p:cNvSpPr/>
            <p:nvPr/>
          </p:nvSpPr>
          <p:spPr>
            <a:xfrm>
              <a:off x="5734080" y="1687680"/>
              <a:ext cx="2730600" cy="3797280"/>
            </a:xfrm>
            <a:prstGeom prst="rect">
              <a:avLst/>
            </a:prstGeom>
            <a:gradFill rotWithShape="0">
              <a:gsLst>
                <a:gs pos="0">
                  <a:srgbClr val="595900"/>
                </a:gs>
                <a:gs pos="50000">
                  <a:srgbClr val="808000"/>
                </a:gs>
                <a:gs pos="100000">
                  <a:srgbClr val="595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62680" y="2297160"/>
              <a:ext cx="2273400" cy="46980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T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50080" y="2900520"/>
              <a:ext cx="2286000" cy="46980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R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62680" y="3503520"/>
              <a:ext cx="2273400" cy="47016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o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62680" y="4106880"/>
              <a:ext cx="2273400" cy="46980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is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62680" y="4710240"/>
              <a:ext cx="2273400" cy="46980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croGraf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70400" y="1697040"/>
              <a:ext cx="3657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tiveX 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962680" y="2297160"/>
            <a:ext cx="2273400" cy="46980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50080" y="2900520"/>
            <a:ext cx="2286000" cy="46980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VR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730840" y="2220840"/>
            <a:ext cx="3197160" cy="2425680"/>
            <a:chOff x="5730840" y="2220840"/>
            <a:chExt cx="3197160" cy="2425680"/>
          </a:xfrm>
        </p:grpSpPr>
        <p:sp>
          <p:nvSpPr>
            <p:cNvPr id="317" name=""/>
            <p:cNvSpPr/>
            <p:nvPr/>
          </p:nvSpPr>
          <p:spPr>
            <a:xfrm>
              <a:off x="5964120" y="2220840"/>
              <a:ext cx="2730600" cy="2425680"/>
            </a:xfrm>
            <a:prstGeom prst="rect">
              <a:avLst/>
            </a:prstGeom>
            <a:gradFill rotWithShape="0">
              <a:gsLst>
                <a:gs pos="0">
                  <a:srgbClr val="9943b3"/>
                </a:gs>
                <a:gs pos="50000">
                  <a:srgbClr val="c055e1"/>
                </a:gs>
                <a:gs pos="100000">
                  <a:srgbClr val="9943b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40640" y="3363840"/>
              <a:ext cx="825480" cy="444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PE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92720" y="2754360"/>
              <a:ext cx="1049400" cy="444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R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192720" y="3363840"/>
              <a:ext cx="1282680" cy="444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l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16720" y="2754360"/>
              <a:ext cx="1049400" cy="444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T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30840" y="2230560"/>
              <a:ext cx="319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tiveX contr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92720" y="3973680"/>
              <a:ext cx="1359000" cy="4442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hockwa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16960" y="3973680"/>
              <a:ext cx="749160" cy="4442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D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92720" y="2754360"/>
            <a:ext cx="1049400" cy="44460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VR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16720" y="2754360"/>
            <a:ext cx="1049400" cy="44460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730840" y="4659480"/>
            <a:ext cx="3197160" cy="1815840"/>
            <a:chOff x="5730840" y="4659480"/>
            <a:chExt cx="3197160" cy="1815840"/>
          </a:xfrm>
        </p:grpSpPr>
        <p:sp>
          <p:nvSpPr>
            <p:cNvPr id="328" name=""/>
            <p:cNvSpPr/>
            <p:nvPr/>
          </p:nvSpPr>
          <p:spPr>
            <a:xfrm>
              <a:off x="5964120" y="4659480"/>
              <a:ext cx="2730600" cy="1815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ffffff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4880" y="5176800"/>
              <a:ext cx="1447920" cy="66852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isual Basic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ri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92720" y="5802480"/>
              <a:ext cx="1282680" cy="44424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Scri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43800" y="5176800"/>
              <a:ext cx="1049400" cy="4446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X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30840" y="4668840"/>
              <a:ext cx="319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tiveX scrip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91400" y="5786280"/>
              <a:ext cx="901800" cy="4446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6014880" y="5176800"/>
            <a:ext cx="1447920" cy="5367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Visual B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92720" y="5802480"/>
            <a:ext cx="1282680" cy="44424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Java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35080" y="5423040"/>
            <a:ext cx="7073640" cy="1358640"/>
            <a:chOff x="235080" y="5423040"/>
            <a:chExt cx="7073640" cy="1358640"/>
          </a:xfrm>
        </p:grpSpPr>
        <p:sp>
          <p:nvSpPr>
            <p:cNvPr id="337" name=""/>
            <p:cNvSpPr/>
            <p:nvPr/>
          </p:nvSpPr>
          <p:spPr>
            <a:xfrm>
              <a:off x="235080" y="5423040"/>
              <a:ext cx="7073640" cy="135864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50000">
                  <a:srgbClr val="996633"/>
                </a:gs>
                <a:gs pos="100000">
                  <a:srgbClr val="6a462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6400" y="5661000"/>
              <a:ext cx="1427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ervi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11240" y="5575320"/>
              <a:ext cx="1663920" cy="1054080"/>
            </a:xfrm>
            <a:prstGeom prst="roundRect">
              <a:avLst>
                <a:gd name="adj" fmla="val 12495"/>
              </a:avLst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RL re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TTP, F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30680" y="5575320"/>
              <a:ext cx="1520640" cy="1054080"/>
            </a:xfrm>
            <a:prstGeom prst="roundRect">
              <a:avLst>
                <a:gd name="adj" fmla="val 12495"/>
              </a:avLst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yperlink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ist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vori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16560" y="5575320"/>
              <a:ext cx="1662120" cy="1054080"/>
            </a:xfrm>
            <a:prstGeom prst="roundRect">
              <a:avLst>
                <a:gd name="adj" fmla="val 12495"/>
              </a:avLst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de downl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d 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90440" y="1201680"/>
            <a:ext cx="4991040" cy="3801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rketing name for a set of technologies and services, all based on the Component Object Model (COM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just COM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OM” is just COM with a longer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0920" y="225000"/>
            <a:ext cx="7947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enef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30480" y="1415880"/>
            <a:ext cx="6683040" cy="190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w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road Industry Suppor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O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enefits:  Pow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 highest performance, “no compromises”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richest and most robust array of programming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and open support for industry standards: HTTP, HTML, TCP/IP, Java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ed, accountable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on solid, proven foundation of 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enefits:  Cho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 and match from huge industry arsenal of tools, languages, code and expert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pplications for Interne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/or 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 components in the browser or other applications (any contain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with any tool or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Macintosh®, UNIX® and Windows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 components using an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ipt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enefits</a:t>
            </a:r>
            <a:br>
              <a:rPr sz="4000"/>
            </a:b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Broadest industry suppor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 proven, compatible, third generation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today from over 1,000 controls from hundreds of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ga Information Group: $240 million industry in 1996, growing to over $2 billion by 2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 components in the most popular ap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 Office, Internet Explorer, Lotus® Notes, Lotus SmartSuite®, Sybase® PowerBuil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with familiar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 Visual C++, Microsoft Visual Basic, Borland C++, Borland Delphi, Java and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is the first and only component technology to achieve commercial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’s thriving ActiveX software component industry makes it quick and easy to build great web si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ized architecture is not just the future; it is here today with Activ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rcRect l="1120" t="1959" r="1569" b="737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7864560" y="6264360"/>
            <a:ext cx="1197360" cy="376200"/>
            <a:chOff x="7864560" y="6264360"/>
            <a:chExt cx="1197360" cy="376200"/>
          </a:xfrm>
        </p:grpSpPr>
        <p:pic>
          <p:nvPicPr>
            <p:cNvPr id="356" name="" descr=""/>
            <p:cNvPicPr/>
            <p:nvPr/>
          </p:nvPicPr>
          <p:blipFill>
            <a:blip r:embed="rId2"/>
            <a:stretch/>
          </p:blipFill>
          <p:spPr>
            <a:xfrm>
              <a:off x="7864560" y="6297480"/>
              <a:ext cx="103968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835840" y="6264360"/>
              <a:ext cx="2260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5e574e"/>
                  </a:solidFill>
                  <a:latin typeface="Arial Narrow"/>
                </a:rPr>
                <a:t>™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502920"/>
            <a:ext cx="89913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Web Today: “Islands” of Cod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60360" y="1504800"/>
          <a:ext cx="6623280" cy="49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504800"/>
                    <a:ext cx="6623280" cy="49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063320" y="3019320"/>
            <a:ext cx="101556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46320" y="3705120"/>
            <a:ext cx="1457640" cy="4582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91080" y="5076720"/>
            <a:ext cx="1337040" cy="4582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B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880" y="5108400"/>
            <a:ext cx="121824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13320" y="3629160"/>
            <a:ext cx="145620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99520" y="4695840"/>
            <a:ext cx="167400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HT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02920"/>
            <a:ext cx="9142560" cy="11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ridges the “Islands”</a:t>
            </a:r>
            <a:br>
              <a:rPr sz="4000"/>
            </a:br>
            <a:r>
              <a:rPr b="0" i="1" lang="en-US" sz="2400" spc="-1" strike="noStrike">
                <a:solidFill>
                  <a:srgbClr val="808000"/>
                </a:solidFill>
                <a:latin typeface="Arial Black"/>
              </a:rPr>
              <a:t>Makes it easy to integrate and reuse any compon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60360" y="1733400"/>
          <a:ext cx="6623280" cy="49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733400"/>
                    <a:ext cx="6623280" cy="49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063320" y="3247920"/>
            <a:ext cx="101556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98720" y="3933720"/>
            <a:ext cx="1756440" cy="4582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Script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87840" y="5305320"/>
            <a:ext cx="1337040" cy="4582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B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880" y="5337000"/>
            <a:ext cx="121824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13320" y="3857760"/>
            <a:ext cx="145620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99520" y="4924440"/>
            <a:ext cx="167400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HT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8520" y="4140360"/>
            <a:ext cx="0" cy="1143000"/>
          </a:xfrm>
          <a:prstGeom prst="line">
            <a:avLst/>
          </a:prstGeom>
          <a:ln w="50760">
            <a:solidFill>
              <a:srgbClr val="33cc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95520" y="4140360"/>
            <a:ext cx="2286000" cy="1143000"/>
          </a:xfrm>
          <a:prstGeom prst="line">
            <a:avLst/>
          </a:prstGeom>
          <a:ln w="50760">
            <a:solidFill>
              <a:srgbClr val="33cc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395520" y="4216320"/>
            <a:ext cx="2286000" cy="990720"/>
          </a:xfrm>
          <a:prstGeom prst="line">
            <a:avLst/>
          </a:prstGeom>
          <a:ln w="50760">
            <a:solidFill>
              <a:srgbClr val="33cc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5120" y="503280"/>
            <a:ext cx="8753760" cy="11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tivation For ActiveX</a:t>
            </a:r>
            <a:br>
              <a:rPr sz="4000"/>
            </a:br>
            <a:r>
              <a:rPr b="0" i="1" lang="en-US" sz="2200" spc="-1" strike="noStrike">
                <a:solidFill>
                  <a:srgbClr val="808000"/>
                </a:solidFill>
                <a:latin typeface="Arial Black"/>
              </a:rPr>
              <a:t>Bring Component-based Development to the Interne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Developers - want to easily create, reuse and integrate software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roducers - want to build rich, engaging Web sites quickly and easi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Users - want an intriguing, exciting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92600" y="1835280"/>
            <a:ext cx="4330800" cy="4559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10360" y="32259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463068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96520" y="2575080"/>
            <a:ext cx="182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4160" y="3489480"/>
            <a:ext cx="16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5200" y="5241960"/>
            <a:ext cx="169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160" y="104400"/>
            <a:ext cx="9067680" cy="11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onent-bas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eb Develop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7240" y="1378080"/>
            <a:ext cx="3581280" cy="4730760"/>
            <a:chOff x="57240" y="1378080"/>
            <a:chExt cx="3581280" cy="4730760"/>
          </a:xfrm>
        </p:grpSpPr>
        <p:grpSp>
          <p:nvGrpSpPr>
            <p:cNvPr id="123" name=""/>
            <p:cNvGrpSpPr/>
            <p:nvPr/>
          </p:nvGrpSpPr>
          <p:grpSpPr>
            <a:xfrm>
              <a:off x="57240" y="1378080"/>
              <a:ext cx="3581280" cy="4730760"/>
              <a:chOff x="57240" y="1378080"/>
              <a:chExt cx="3581280" cy="4730760"/>
            </a:xfrm>
          </p:grpSpPr>
          <p:sp>
            <p:nvSpPr>
              <p:cNvPr id="124" name=""/>
              <p:cNvSpPr/>
              <p:nvPr/>
            </p:nvSpPr>
            <p:spPr>
              <a:xfrm>
                <a:off x="57240" y="3333600"/>
                <a:ext cx="3581280" cy="277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ctiveX Control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e-fabricated compon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ckaged by  programm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mponents for animation, 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video, sound, 3D,  etc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clude visual and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design-time behavi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282680" y="2597040"/>
                <a:ext cx="520560" cy="52092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96880" y="2597040"/>
                <a:ext cx="520560" cy="52092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77760" y="1987560"/>
                <a:ext cx="444600" cy="36828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44800" y="2597040"/>
                <a:ext cx="520560" cy="52092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816200" y="1987560"/>
                <a:ext cx="444240" cy="36828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34960" y="1378080"/>
                <a:ext cx="444600" cy="36828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31" name=""/>
            <p:cNvGraphicFramePr/>
            <p:nvPr/>
          </p:nvGraphicFramePr>
          <p:xfrm>
            <a:off x="2066760" y="2771640"/>
            <a:ext cx="352440" cy="35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66760" y="2771640"/>
                      <a:ext cx="3524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"/>
            <p:cNvGraphicFramePr/>
            <p:nvPr/>
          </p:nvGraphicFramePr>
          <p:xfrm>
            <a:off x="615960" y="2784600"/>
            <a:ext cx="355680" cy="33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960" y="2784600"/>
                      <a:ext cx="355680" cy="33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"/>
            <p:cNvGraphicFramePr/>
            <p:nvPr/>
          </p:nvGraphicFramePr>
          <p:xfrm>
            <a:off x="1300320" y="2766960"/>
            <a:ext cx="357120" cy="357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00320" y="2766960"/>
                      <a:ext cx="35712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7" name=""/>
          <p:cNvGrpSpPr/>
          <p:nvPr/>
        </p:nvGrpSpPr>
        <p:grpSpPr>
          <a:xfrm>
            <a:off x="2876400" y="1476360"/>
            <a:ext cx="4114800" cy="4346640"/>
            <a:chOff x="2876400" y="1476360"/>
            <a:chExt cx="4114800" cy="4346640"/>
          </a:xfrm>
        </p:grpSpPr>
        <p:grpSp>
          <p:nvGrpSpPr>
            <p:cNvPr id="138" name=""/>
            <p:cNvGrpSpPr/>
            <p:nvPr/>
          </p:nvGrpSpPr>
          <p:grpSpPr>
            <a:xfrm>
              <a:off x="2876400" y="3352680"/>
              <a:ext cx="4114800" cy="2470320"/>
              <a:chOff x="2876400" y="3352680"/>
              <a:chExt cx="4114800" cy="247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2876400" y="3581280"/>
                <a:ext cx="838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74960" y="3352680"/>
                <a:ext cx="3216240" cy="247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diting and 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yout Tool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ntent cre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Visual content lay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grated scrip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One button publish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ntent manag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890880" y="1476360"/>
              <a:ext cx="1805040" cy="1785960"/>
              <a:chOff x="3890880" y="1476360"/>
              <a:chExt cx="1805040" cy="1785960"/>
            </a:xfrm>
          </p:grpSpPr>
          <p:pic>
            <p:nvPicPr>
              <p:cNvPr id="14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916520" y="2249640"/>
                <a:ext cx="779400" cy="1012680"/>
              </a:xfrm>
              <a:prstGeom prst="rect">
                <a:avLst/>
              </a:prstGeom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</p:pic>
          <p:pic>
            <p:nvPicPr>
              <p:cNvPr id="14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09920" y="1784520"/>
                <a:ext cx="843120" cy="10350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5e574e"/>
                </a:outerShdw>
              </a:effectLst>
            </p:spPr>
          </p:pic>
          <p:pic>
            <p:nvPicPr>
              <p:cNvPr id="14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890880" y="1476360"/>
                <a:ext cx="790560" cy="1031760"/>
              </a:xfrm>
              <a:prstGeom prst="rect">
                <a:avLst/>
              </a:prstGeom>
              <a:ln w="12600">
                <a:solidFill>
                  <a:srgbClr val="5e574e"/>
                </a:solidFill>
                <a:miter/>
              </a:ln>
            </p:spPr>
          </p:pic>
        </p:grpSp>
      </p:grpSp>
      <p:grpSp>
        <p:nvGrpSpPr>
          <p:cNvPr id="145" name=""/>
          <p:cNvGrpSpPr/>
          <p:nvPr/>
        </p:nvGrpSpPr>
        <p:grpSpPr>
          <a:xfrm>
            <a:off x="5848200" y="1301760"/>
            <a:ext cx="3239280" cy="4342680"/>
            <a:chOff x="5848200" y="1301760"/>
            <a:chExt cx="3239280" cy="4342680"/>
          </a:xfrm>
        </p:grpSpPr>
        <p:grpSp>
          <p:nvGrpSpPr>
            <p:cNvPr id="146" name=""/>
            <p:cNvGrpSpPr/>
            <p:nvPr/>
          </p:nvGrpSpPr>
          <p:grpSpPr>
            <a:xfrm>
              <a:off x="5848200" y="3352680"/>
              <a:ext cx="3239280" cy="2291760"/>
              <a:chOff x="5848200" y="3352680"/>
              <a:chExt cx="3239280" cy="2291760"/>
            </a:xfrm>
          </p:grpSpPr>
          <p:sp>
            <p:nvSpPr>
              <p:cNvPr id="147" name=""/>
              <p:cNvSpPr/>
              <p:nvPr/>
            </p:nvSpPr>
            <p:spPr>
              <a:xfrm>
                <a:off x="5848200" y="3562200"/>
                <a:ext cx="838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6881040" y="3352680"/>
                <a:ext cx="2206440" cy="2291760"/>
                <a:chOff x="6881040" y="3352680"/>
                <a:chExt cx="2206440" cy="22917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887880" y="3352680"/>
                  <a:ext cx="2199600" cy="94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High Impact </a:t>
                  </a:r>
                  <a:br>
                    <a:rPr sz="2800"/>
                  </a:b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Conten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881040" y="4332240"/>
                  <a:ext cx="1844640" cy="13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buClr>
                      <a:srgbClr val="000000"/>
                    </a:buClr>
                    <a:buFont typeface="Wingdings" charset="2"/>
                    <a:buChar char="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ntertain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Wingdings" charset="2"/>
                    <a:buChar char="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ommer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Wingdings" charset="2"/>
                    <a:buChar char="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nformation </a:t>
                  </a:r>
                  <a:br>
                    <a:rPr sz="2000"/>
                  </a:b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  gather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1" name="" descr=""/>
            <p:cNvPicPr/>
            <p:nvPr/>
          </p:nvPicPr>
          <p:blipFill>
            <a:blip r:embed="rId10"/>
            <a:stretch/>
          </p:blipFill>
          <p:spPr>
            <a:xfrm>
              <a:off x="7118280" y="1301760"/>
              <a:ext cx="1608120" cy="1892160"/>
            </a:xfrm>
            <a:prstGeom prst="rect">
              <a:avLst/>
            </a:prstGeom>
            <a:ln w="12600">
              <a:solidFill>
                <a:srgbClr val="ff6600"/>
              </a:solidFill>
              <a:miter/>
            </a:ln>
          </p:spPr>
        </p:pic>
      </p:grp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8280" y="503280"/>
            <a:ext cx="840744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ments Of Active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920880" y="4127400"/>
            <a:ext cx="7302240" cy="635040"/>
          </a:xfrm>
          <a:prstGeom prst="rect">
            <a:avLst/>
          </a:prstGeom>
          <a:gradFill rotWithShape="0">
            <a:gsLst>
              <a:gs pos="0">
                <a:srgbClr val="b18d00"/>
              </a:gs>
              <a:gs pos="50000">
                <a:srgbClr val="ffcc00"/>
              </a:gs>
              <a:gs pos="100000">
                <a:srgbClr val="b18d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Object Model (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component pack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19080" y="4933800"/>
            <a:ext cx="7317000" cy="749520"/>
            <a:chOff x="919080" y="4933800"/>
            <a:chExt cx="7317000" cy="749520"/>
          </a:xfrm>
        </p:grpSpPr>
        <p:sp>
          <p:nvSpPr>
            <p:cNvPr id="155" name=""/>
            <p:cNvSpPr/>
            <p:nvPr/>
          </p:nvSpPr>
          <p:spPr>
            <a:xfrm>
              <a:off x="919080" y="4933800"/>
              <a:ext cx="2121120" cy="749520"/>
            </a:xfrm>
            <a:prstGeom prst="rect">
              <a:avLst/>
            </a:prstGeom>
            <a:gradFill rotWithShape="0">
              <a:gsLst>
                <a:gs pos="0">
                  <a:srgbClr val="595900"/>
                </a:gs>
                <a:gs pos="50000">
                  <a:srgbClr val="808000"/>
                </a:gs>
                <a:gs pos="100000">
                  <a:srgbClr val="595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indows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40520" y="4933800"/>
              <a:ext cx="2095560" cy="749520"/>
            </a:xfrm>
            <a:prstGeom prst="rect">
              <a:avLst/>
            </a:prstGeom>
            <a:gradFill rotWithShape="0">
              <a:gsLst>
                <a:gs pos="0">
                  <a:srgbClr val="595900"/>
                </a:gs>
                <a:gs pos="50000">
                  <a:srgbClr val="808000"/>
                </a:gs>
                <a:gs pos="100000">
                  <a:srgbClr val="595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IX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24400" y="4933800"/>
              <a:ext cx="2095200" cy="749520"/>
            </a:xfrm>
            <a:prstGeom prst="rect">
              <a:avLst/>
            </a:prstGeom>
            <a:gradFill rotWithShape="0">
              <a:gsLst>
                <a:gs pos="0">
                  <a:srgbClr val="595900"/>
                </a:gs>
                <a:gs pos="50000">
                  <a:srgbClr val="808000"/>
                </a:gs>
                <a:gs pos="100000">
                  <a:srgbClr val="595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cintosh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" y="4876920"/>
            <a:ext cx="8840880" cy="1906560"/>
            <a:chOff x="228600" y="4876920"/>
            <a:chExt cx="8840880" cy="1906560"/>
          </a:xfrm>
        </p:grpSpPr>
        <p:sp>
          <p:nvSpPr>
            <p:cNvPr id="159" name=""/>
            <p:cNvSpPr/>
            <p:nvPr/>
          </p:nvSpPr>
          <p:spPr>
            <a:xfrm>
              <a:off x="228600" y="5791320"/>
              <a:ext cx="8840880" cy="992160"/>
            </a:xfrm>
            <a:custGeom>
              <a:avLst/>
              <a:gdLst/>
              <a:ahLst/>
              <a:rect l="l" t="t" r="r" b="b"/>
              <a:pathLst>
                <a:path w="5569" h="625">
                  <a:moveTo>
                    <a:pt x="0" y="267"/>
                  </a:moveTo>
                  <a:lnTo>
                    <a:pt x="1392" y="0"/>
                  </a:lnTo>
                  <a:lnTo>
                    <a:pt x="1392" y="89"/>
                  </a:lnTo>
                  <a:lnTo>
                    <a:pt x="4176" y="89"/>
                  </a:lnTo>
                  <a:lnTo>
                    <a:pt x="4176" y="0"/>
                  </a:lnTo>
                  <a:lnTo>
                    <a:pt x="5568" y="356"/>
                  </a:lnTo>
                  <a:lnTo>
                    <a:pt x="4176" y="624"/>
                  </a:lnTo>
                  <a:lnTo>
                    <a:pt x="4176" y="534"/>
                  </a:lnTo>
                  <a:lnTo>
                    <a:pt x="1392" y="534"/>
                  </a:lnTo>
                  <a:lnTo>
                    <a:pt x="1392" y="624"/>
                  </a:lnTo>
                  <a:lnTo>
                    <a:pt x="0" y="267"/>
                  </a:lnTo>
                </a:path>
              </a:pathLst>
            </a:custGeom>
            <a:gradFill rotWithShape="0">
              <a:gsLst>
                <a:gs pos="0">
                  <a:srgbClr val="b1b1b1"/>
                </a:gs>
                <a:gs pos="50000">
                  <a:srgbClr val="ffffff"/>
                </a:gs>
                <a:gs pos="100000">
                  <a:srgbClr val="b1b1b1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51240" y="6080040"/>
              <a:ext cx="4240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stributed 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/distributed comp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67280" y="4876920"/>
              <a:ext cx="0" cy="99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76720" y="4876920"/>
              <a:ext cx="0" cy="99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920880" y="3403440"/>
            <a:ext cx="7302240" cy="711360"/>
          </a:xfrm>
          <a:prstGeom prst="rect">
            <a:avLst/>
          </a:prstGeom>
          <a:gradFill rotWithShape="0">
            <a:gsLst>
              <a:gs pos="0">
                <a:srgbClr val="6a4623"/>
              </a:gs>
              <a:gs pos="5000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s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Ls, hyperlinking, browser frame, HTML, Java VM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7640" y="2673360"/>
            <a:ext cx="7305480" cy="749160"/>
          </a:xfrm>
          <a:prstGeom prst="rect">
            <a:avLst/>
          </a:prstGeom>
          <a:gradFill rotWithShape="0">
            <a:gsLst>
              <a:gs pos="0">
                <a:srgbClr val="853b9c"/>
              </a:gs>
              <a:gs pos="50000">
                <a:srgbClr val="c055e1"/>
              </a:gs>
              <a:gs pos="100000">
                <a:srgbClr val="853b9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s and App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++, Delphi®, Java, Visual Basic®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7640" y="1911240"/>
            <a:ext cx="7305480" cy="749520"/>
          </a:xfrm>
          <a:prstGeom prst="rect">
            <a:avLst/>
          </a:prstGeom>
          <a:gradFill rotWithShape="0">
            <a:gsLst>
              <a:gs pos="0">
                <a:srgbClr val="b14600"/>
              </a:gs>
              <a:gs pos="50000">
                <a:srgbClr val="ff6600"/>
              </a:gs>
              <a:gs pos="100000">
                <a:srgbClr val="b146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ual Basic, Scripting Edition, JScript, Tck/Tk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36600" y="1208160"/>
            <a:ext cx="6670800" cy="560160"/>
          </a:xfrm>
          <a:prstGeom prst="rect">
            <a:avLst/>
          </a:prstGeom>
          <a:gradFill rotWithShape="0">
            <a:gsLst>
              <a:gs pos="0">
                <a:srgbClr val="595900"/>
              </a:gs>
              <a:gs pos="50000">
                <a:srgbClr val="808000"/>
              </a:gs>
              <a:gs pos="100000">
                <a:srgbClr val="595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s, Documents, and Applications/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" y="502920"/>
            <a:ext cx="89870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onent Object Model (COM) </a:t>
            </a:r>
            <a:br>
              <a:rPr sz="4000"/>
            </a:br>
            <a:r>
              <a:rPr b="0" i="1" lang="en-US" sz="3200" spc="-1" strike="noStrike">
                <a:solidFill>
                  <a:srgbClr val="808000"/>
                </a:solidFill>
                <a:latin typeface="Arial Black"/>
              </a:rPr>
              <a:t>Foundation for ActiveX compon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77920" y="1812600"/>
            <a:ext cx="858816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ionable, programm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ghtweight, f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 and tool-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ith today’s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-plat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components are COM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COM extends interactions between components across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980040" y="2063880"/>
            <a:ext cx="1990800" cy="2425680"/>
            <a:chOff x="6980040" y="2063880"/>
            <a:chExt cx="1990800" cy="2425680"/>
          </a:xfrm>
        </p:grpSpPr>
        <p:sp>
          <p:nvSpPr>
            <p:cNvPr id="170" name=""/>
            <p:cNvSpPr/>
            <p:nvPr/>
          </p:nvSpPr>
          <p:spPr>
            <a:xfrm>
              <a:off x="7086600" y="2673360"/>
              <a:ext cx="1884240" cy="1816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853b9c"/>
                </a:gs>
                <a:gs pos="50000">
                  <a:srgbClr val="c055e1"/>
                </a:gs>
                <a:gs pos="100000">
                  <a:srgbClr val="853b9c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9644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26600" y="2063880"/>
              <a:ext cx="139680" cy="139680"/>
            </a:xfrm>
            <a:prstGeom prst="ellipse">
              <a:avLst/>
            </a:prstGeom>
            <a:gradFill rotWithShape="0">
              <a:gsLst>
                <a:gs pos="0">
                  <a:srgbClr val="c055e1"/>
                </a:gs>
                <a:gs pos="100000">
                  <a:srgbClr val="853b9c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80040" y="2117880"/>
              <a:ext cx="1640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Unkn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harlie Kindel</dc:creator>
  <dc:description> This presentation was given by Charlie Kindel at Object World East '97.</dc:description>
  <cp:keywords>COM ActiveX OLE DCOM Objects Components IE Internet Explorer</cp:keywords>
  <dc:language>en-US</dc:language>
  <cp:lastModifiedBy>Michael Gross</cp:lastModifiedBy>
  <cp:lastPrinted>1997-03-05T18:32:21Z</cp:lastPrinted>
  <dcterms:modified xsi:type="dcterms:W3CDTF">1997-08-01T05:06:00Z</dcterms:modified>
  <cp:revision>112</cp:revision>
  <dc:subject>ActiveX and COM</dc:subject>
  <dc:title>ActiveX and The Web</dc:title>
</cp:coreProperties>
</file>