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fr-FR" sz="1200" spc="-1" strike="noStrike" u="sng">
                <a:solidFill>
                  <a:srgbClr val="4638b4"/>
                </a:solidFill>
                <a:uFillTx/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1" lang="fr-FR" sz="1200" spc="-1" strike="noStrike" u="sng">
                <a:solidFill>
                  <a:srgbClr val="4638b4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fr-FR" sz="1200" spc="-1" strike="noStrike" u="sng">
                <a:solidFill>
                  <a:srgbClr val="4638b4"/>
                </a:solidFill>
                <a:uFillTx/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039320" y="721800"/>
            <a:ext cx="4808520" cy="36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1" lang="fr-FR" sz="1200" spc="-1" strike="noStrike" u="sng">
                <a:solidFill>
                  <a:srgbClr val="4638b4"/>
                </a:solidFill>
                <a:uFillTx/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fr-FR" sz="1200" spc="-1" strike="noStrike" u="sng">
                <a:solidFill>
                  <a:srgbClr val="4638b4"/>
                </a:solidFill>
                <a:uFillTx/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1" lang="fr-FR" sz="1200" spc="-1" strike="noStrike" u="sng">
                <a:solidFill>
                  <a:srgbClr val="4638b4"/>
                </a:solidFill>
                <a:uFillTx/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134DE3C-3419-4D81-9E7A-7A41155BBF62}" type="slidenum">
              <a:rPr b="1" lang="fr-FR" sz="1200" spc="-1" strike="noStrike" u="sng">
                <a:solidFill>
                  <a:srgbClr val="4638b4"/>
                </a:solidFill>
                <a:uFillTx/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68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xecute() plus rarement utilisé (procédure stocké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08520" cy="36068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rs d’un chargement dynamique, un constructeur statique est appelé. C’est à travers celui-ci que s’effectue le référencement des pilotes auprès du DriverMana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DriverManager.registerDriver (new oracle.jdbc.driver.OracleDriver());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609480" y="0"/>
            <a:ext cx="0" cy="685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946680" y="636588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4008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8b4"/>
                </a:solidFill>
                <a:latin typeface="Times New Roman"/>
              </a:rPr>
              <a:t>©2000 A. DELEUSIÈ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4638b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de041a"/>
                </a:solidFill>
                <a:latin typeface="Times New Roman"/>
              </a:rPr>
              <a:t>JDBC™ 2.1 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duke" descr=""/>
          <p:cNvPicPr/>
          <p:nvPr/>
        </p:nvPicPr>
        <p:blipFill>
          <a:blip r:embed="rId2"/>
          <a:stretch/>
        </p:blipFill>
        <p:spPr>
          <a:xfrm>
            <a:off x="152280" y="6108840"/>
            <a:ext cx="1219320" cy="579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ava.sun.com/" TargetMode="External"/><Relationship Id="rId2" Type="http://schemas.openxmlformats.org/officeDocument/2006/relationships/hyperlink" Target="http://java.sun.com/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perso.wanadoo.fr/aureliend" TargetMode="External"/><Relationship Id="rId3" Type="http://schemas.openxmlformats.org/officeDocument/2006/relationships/hyperlink" Target="http://perso.wanadoo.fr/aureliend" TargetMode="External"/><Relationship Id="rId4" Type="http://schemas.openxmlformats.org/officeDocument/2006/relationships/hyperlink" Target="http://perso.wanadoo.fr/aureliend" TargetMode="External"/><Relationship Id="rId5" Type="http://schemas.openxmlformats.org/officeDocument/2006/relationships/hyperlink" Target="http://perso.wanadoo.fr/aureliend" TargetMode="External"/><Relationship Id="rId6" Type="http://schemas.openxmlformats.org/officeDocument/2006/relationships/hyperlink" Target="http://perso.wanadoo.fr/aureliend" TargetMode="External"/><Relationship Id="rId7" Type="http://schemas.openxmlformats.org/officeDocument/2006/relationships/hyperlink" Target="http://perso.wanadoo.fr/aureliend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JDBC™ 2.1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971440"/>
            <a:ext cx="7772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041a"/>
                </a:solidFill>
                <a:latin typeface="Times New Roman"/>
              </a:rPr>
              <a:t>Accéder aux bases de données</a:t>
            </a:r>
            <a:br>
              <a:rPr sz="3200"/>
            </a:br>
            <a:r>
              <a:rPr b="0" lang="en-US" sz="3200" spc="-1" strike="noStrike">
                <a:solidFill>
                  <a:srgbClr val="de041a"/>
                </a:solidFill>
                <a:latin typeface="Times New Roman"/>
              </a:rPr>
              <a:t>avec Java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jdbc_ds_duke.sm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2000520" cy="949320"/>
          </a:xfrm>
          <a:prstGeom prst="rect">
            <a:avLst/>
          </a:prstGeom>
          <a:ln w="0">
            <a:noFill/>
          </a:ln>
        </p:spPr>
      </p:pic>
      <p:pic>
        <p:nvPicPr>
          <p:cNvPr id="53" name="javalogo52x88" descr=""/>
          <p:cNvPicPr/>
          <p:nvPr/>
        </p:nvPicPr>
        <p:blipFill>
          <a:blip r:embed="rId2"/>
          <a:stretch/>
        </p:blipFill>
        <p:spPr>
          <a:xfrm>
            <a:off x="4282920" y="4038480"/>
            <a:ext cx="594000" cy="1006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5364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urélien Deleusière – 09/11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Exemples d’U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29528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String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url =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jdbc:oracle:thin:@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           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(DESCRIPTION=(ADDRESS=(HOST=10.31.68.110)"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           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(PROTOCOL=tcp)(PORT=1521))"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            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(CONNECT_DATA=(SID=ORCL)))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676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mple Oracle (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thin method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4648320"/>
            <a:ext cx="7772400" cy="38088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FR" sz="1600" spc="-1" strike="noStrike">
                <a:solidFill>
                  <a:srgbClr val="46b438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url =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jdbc:odbc:"</a:t>
            </a:r>
            <a:r>
              <a:rPr b="0" lang="fr-FR" sz="16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+ dataSource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4038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mple ODBC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Connexion à une BD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0512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Connection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cnt = DriverManager.getConnection(url, userName,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                                          passwor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SQLException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ystem.err.println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SQL State : 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+ e.getSQLStat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ystem.err.println(e.getMessag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méthod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Connection()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permet d’établir la connexion décrite par l’U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paramètres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userNam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sont optio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338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341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344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Requête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348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353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359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200400" y="15238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3183908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00400" y="19810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river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00400" y="24382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riverProperty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152892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980720" y="1704960"/>
            <a:ext cx="1219680" cy="914400"/>
            <a:chOff x="1980720" y="1704960"/>
            <a:chExt cx="1219680" cy="914400"/>
          </a:xfrm>
        </p:grpSpPr>
        <p:sp>
          <p:nvSpPr>
            <p:cNvPr id="371" name=""/>
            <p:cNvSpPr/>
            <p:nvPr/>
          </p:nvSpPr>
          <p:spPr>
            <a:xfrm>
              <a:off x="2743200" y="26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43200" y="2162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43200" y="170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43200" y="17049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1980720" y="17049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781680" y="1523880"/>
            <a:ext cx="1981080" cy="380880"/>
            <a:chOff x="6781680" y="1523880"/>
            <a:chExt cx="1981080" cy="380880"/>
          </a:xfrm>
        </p:grpSpPr>
        <p:sp>
          <p:nvSpPr>
            <p:cNvPr id="377" name=""/>
            <p:cNvSpPr/>
            <p:nvPr/>
          </p:nvSpPr>
          <p:spPr>
            <a:xfrm>
              <a:off x="6781680" y="15238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cap="rnd" w="28440">
              <a:solidFill>
                <a:srgbClr val="de041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781680" y="1523880"/>
              <a:ext cx="1981080" cy="368280"/>
            </a:xfrm>
            <a:prstGeom prst="rect">
              <a:avLst/>
            </a:prstGeom>
            <a:noFill/>
            <a:ln cap="rnd" w="28440">
              <a:solidFill>
                <a:srgbClr val="de041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781680" y="1981080"/>
            <a:ext cx="1981080" cy="380880"/>
            <a:chOff x="6781680" y="1981080"/>
            <a:chExt cx="1981080" cy="380880"/>
          </a:xfrm>
        </p:grpSpPr>
        <p:sp>
          <p:nvSpPr>
            <p:cNvPr id="380" name=""/>
            <p:cNvSpPr/>
            <p:nvPr/>
          </p:nvSpPr>
          <p:spPr>
            <a:xfrm>
              <a:off x="6781680" y="19810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81680" y="19810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DatabaseMeta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781680" y="2438280"/>
            <a:ext cx="1981080" cy="380880"/>
            <a:chOff x="6781680" y="2438280"/>
            <a:chExt cx="1981080" cy="380880"/>
          </a:xfrm>
        </p:grpSpPr>
        <p:sp>
          <p:nvSpPr>
            <p:cNvPr id="383" name=""/>
            <p:cNvSpPr/>
            <p:nvPr/>
          </p:nvSpPr>
          <p:spPr>
            <a:xfrm>
              <a:off x="6781680" y="24382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81680" y="24382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386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387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390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2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393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396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399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403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81080" y="3352680"/>
            <a:ext cx="243864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343400" y="3809880"/>
            <a:ext cx="4648320" cy="1219320"/>
            <a:chOff x="4343400" y="3809880"/>
            <a:chExt cx="4648320" cy="1219320"/>
          </a:xfrm>
        </p:grpSpPr>
        <p:sp>
          <p:nvSpPr>
            <p:cNvPr id="414" name=""/>
            <p:cNvSpPr/>
            <p:nvPr/>
          </p:nvSpPr>
          <p:spPr>
            <a:xfrm>
              <a:off x="6553080" y="4343400"/>
              <a:ext cx="2438640" cy="685800"/>
            </a:xfrm>
            <a:prstGeom prst="ellipse">
              <a:avLst/>
            </a:prstGeom>
            <a:noFill/>
            <a:ln w="57240">
              <a:solidFill>
                <a:srgbClr val="de04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343400" y="3809880"/>
              <a:ext cx="2209680" cy="838440"/>
            </a:xfrm>
            <a:prstGeom prst="line">
              <a:avLst/>
            </a:prstGeom>
            <a:ln w="38160">
              <a:solidFill>
                <a:srgbClr val="de041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 flipV="1">
            <a:off x="4343400" y="1752480"/>
            <a:ext cx="2438280" cy="1828800"/>
          </a:xfrm>
          <a:prstGeom prst="line">
            <a:avLst/>
          </a:prstGeom>
          <a:ln cap="rnd" w="38160">
            <a:solidFill>
              <a:srgbClr val="de041a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Création d’une requê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041a"/>
                </a:solidFill>
                <a:latin typeface="Courier New"/>
              </a:rPr>
              <a:t>Statement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stt = cnt.createStatem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3048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crée un objet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Statement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grâce à la méthod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reateStatemen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d’un objet de typ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Conn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t objet permet d’exécuter une requête SQL et d’en récupérer le résult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Exécution d’une requê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ResultSet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s = stt.executeQuery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SELECT * FROM MYTABL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int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count = stt.executeUpdate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DROP TABLE MYTABL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3048120"/>
            <a:ext cx="7696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cuteQuery() : exécute une requête et retourne un objet résultat (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ResultSe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cuteUpdate() : exécute une requête qui ne nécessite pas de retour (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ROP TABLE, CREATE TABLE, INSERT, UPDATE, DELET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) et retourne le nombre de lignes concernées ou 0 le cas éché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Lecture du résult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" y="304812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méthode next() positionne le </a:t>
            </a:r>
            <a:r>
              <a:rPr b="0" lang="fr-FR" sz="2800" spc="-1" strike="noStrike">
                <a:solidFill>
                  <a:srgbClr val="4638b4"/>
                </a:solidFill>
                <a:latin typeface="Times New Roman"/>
              </a:rPr>
              <a:t>curseur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sur la ligne suivante et retourne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false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’il n’y en a 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champs sont typés et accéder grâce aux méthodes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XXX(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ssibilité de lire un résultat avec u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(rs.next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600" spc="-1" strike="noStrike">
                <a:solidFill>
                  <a:srgbClr val="de041a"/>
                </a:solidFill>
                <a:latin typeface="Courier New"/>
              </a:rPr>
              <a:t>int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i = rs.getIn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6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s = rs.getString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600" spc="-1" strike="noStrike">
                <a:solidFill>
                  <a:srgbClr val="de041a"/>
                </a:solidFill>
                <a:latin typeface="Courier New"/>
              </a:rPr>
              <a:t>byte[]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b = rs.getBytes(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fr-CA" sz="1600" spc="-1" strike="noStrike">
                <a:solidFill>
                  <a:srgbClr val="4638b4"/>
                </a:solidFill>
                <a:latin typeface="Courier New"/>
              </a:rPr>
              <a:t>"ROW = "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+ i + </a:t>
            </a:r>
            <a:r>
              <a:rPr b="0" lang="fr-CA" sz="1600" spc="-1" strike="noStrike">
                <a:solidFill>
                  <a:srgbClr val="4638b4"/>
                </a:solidFill>
                <a:latin typeface="Courier New"/>
              </a:rPr>
              <a:t>" "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+ s + </a:t>
            </a:r>
            <a:r>
              <a:rPr b="0" lang="fr-CA" sz="1600" spc="-1" strike="noStrike">
                <a:solidFill>
                  <a:srgbClr val="4638b4"/>
                </a:solidFill>
                <a:latin typeface="Courier New"/>
              </a:rPr>
              <a:t>" "</a:t>
            </a: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 + b[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Libération des res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tt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nt.clos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62120" y="32004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objets Connection et Statement permettent une libération explic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ressources ainsi libérées augmentent la fiabilité de l’appl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Exemple comp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305920" cy="487656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TestJDBC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CA" sz="1800" spc="-1" strike="noStrike">
                <a:solidFill>
                  <a:srgbClr val="000000"/>
                </a:solidFill>
                <a:latin typeface="Courier New"/>
              </a:rPr>
              <a:t>public static void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ring[]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args) </a:t>
            </a:r>
            <a:r>
              <a:rPr b="1" lang="fr-CA" sz="18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Exception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Class.forName(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sun.jdbc.odbc.JdbcOdbcDriver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url = 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jdbc:odbc:Biblio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Connection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cnt = DriverManager.getConnection(ur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atement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stt = cnt.createStatem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ResultSet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rs = stt.executeQuery(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SELECT * FROM books"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CA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(rs.next(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title = rs.getString(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title"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CA" sz="1800" spc="-1" strike="noStrike">
                <a:solidFill>
                  <a:srgbClr val="de041a"/>
                </a:solidFill>
                <a:latin typeface="Courier New"/>
              </a:rPr>
              <a:t>String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id = rs.getString(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System.out.println(title + </a:t>
            </a:r>
            <a:r>
              <a:rPr b="0" lang="fr-CA" sz="1800" spc="-1" strike="noStrike">
                <a:solidFill>
                  <a:srgbClr val="4638b4"/>
                </a:solidFill>
                <a:latin typeface="Courier New"/>
              </a:rPr>
              <a:t>":"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+ 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stt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cnt.clos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432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435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438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Méta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442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447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453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838080" y="1523880"/>
            <a:ext cx="7924680" cy="1295280"/>
            <a:chOff x="838080" y="1523880"/>
            <a:chExt cx="7924680" cy="1295280"/>
          </a:xfrm>
        </p:grpSpPr>
        <p:sp>
          <p:nvSpPr>
            <p:cNvPr id="461" name=""/>
            <p:cNvSpPr/>
            <p:nvPr/>
          </p:nvSpPr>
          <p:spPr>
            <a:xfrm>
              <a:off x="3200400" y="1523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00400" y="19810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00400" y="24382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Property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15289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1980720" y="1704960"/>
              <a:ext cx="1219680" cy="914400"/>
              <a:chOff x="1980720" y="1704960"/>
              <a:chExt cx="1219680" cy="914400"/>
            </a:xfrm>
          </p:grpSpPr>
          <p:sp>
            <p:nvSpPr>
              <p:cNvPr id="466" name=""/>
              <p:cNvSpPr/>
              <p:nvPr/>
            </p:nvSpPr>
            <p:spPr>
              <a:xfrm>
                <a:off x="2743200" y="2619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743200" y="2162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743200" y="1704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43200" y="17049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1980720" y="17049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6781680" y="1523880"/>
              <a:ext cx="1981080" cy="1295280"/>
              <a:chOff x="6781680" y="1523880"/>
              <a:chExt cx="1981080" cy="129528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6781680" y="1523880"/>
                <a:ext cx="1981080" cy="380880"/>
                <a:chOff x="6781680" y="1523880"/>
                <a:chExt cx="1981080" cy="3808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6781680" y="15238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781680" y="15238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Connec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6781680" y="1981080"/>
                <a:ext cx="1981080" cy="380880"/>
                <a:chOff x="6781680" y="1981080"/>
                <a:chExt cx="1981080" cy="3808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6781680" y="19810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781680" y="19810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DatabaseMeta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6781680" y="2438280"/>
                <a:ext cx="1981080" cy="380880"/>
                <a:chOff x="6781680" y="2438280"/>
                <a:chExt cx="1981080" cy="3808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6781680" y="24382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781680" y="24382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Driv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1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482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483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486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8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489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492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495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499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1828800"/>
            <a:ext cx="243864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4800600"/>
            <a:ext cx="243864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ResultSet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041a"/>
                </a:solidFill>
                <a:latin typeface="Courier New"/>
              </a:rPr>
              <a:t>ResultSetMetaData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rsmd = rs.getMetaData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041a"/>
                </a:solidFill>
                <a:latin typeface="Courier New"/>
              </a:rPr>
              <a:t>int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n = rsmd.getColumnCou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5800" y="3048120"/>
            <a:ext cx="7696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ournit des informations sur u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ResultSet,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comm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ombre de colonne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ColumnCoun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om d’une colonne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ColumnName(int 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ype d’une colonne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ColumnType(int 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énérali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lotes JD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xion à une base de données (BD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éation et exécution d’une requête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 des résult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ta-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énéfices de JD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DatabaseMeta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106704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DatabaseMetaData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dbmd = cnt.getGetMetaData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String[] 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types = {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TABLE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ResultSet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catalog = dbmd.getTables(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, usr,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, type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5800" y="3048120"/>
            <a:ext cx="7696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Fournit des informations sur une connexion ainsi que sur la BDD connectée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comm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ype de BDD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DatabaseProductNam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atalogue (tables) :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getTables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cture seule : isReadOnly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Bénéfices de JD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990720" y="5210280"/>
            <a:ext cx="7848360" cy="812520"/>
            <a:chOff x="990720" y="5210280"/>
            <a:chExt cx="7848360" cy="812520"/>
          </a:xfrm>
        </p:grpSpPr>
        <p:sp>
          <p:nvSpPr>
            <p:cNvPr id="518" name=""/>
            <p:cNvSpPr/>
            <p:nvPr/>
          </p:nvSpPr>
          <p:spPr>
            <a:xfrm>
              <a:off x="4915080" y="5210280"/>
              <a:ext cx="392400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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performances, permet d’éviter 1 transaction par </a:t>
              </a: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90720" y="5210280"/>
              <a:ext cx="39243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Batch up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990720" y="4397400"/>
            <a:ext cx="7848360" cy="812880"/>
            <a:chOff x="990720" y="4397400"/>
            <a:chExt cx="7848360" cy="812880"/>
          </a:xfrm>
        </p:grpSpPr>
        <p:sp>
          <p:nvSpPr>
            <p:cNvPr id="521" name=""/>
            <p:cNvSpPr/>
            <p:nvPr/>
          </p:nvSpPr>
          <p:spPr>
            <a:xfrm>
              <a:off x="4915080" y="4397400"/>
              <a:ext cx="39240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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erformances, objets larges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BLOB / CLOB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 manipulés sur serv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90720" y="4397400"/>
              <a:ext cx="39243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pport des nouveaux types SQL 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SQL99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990720" y="3681360"/>
            <a:ext cx="7848360" cy="716040"/>
            <a:chOff x="990720" y="3681360"/>
            <a:chExt cx="7848360" cy="716040"/>
          </a:xfrm>
        </p:grpSpPr>
        <p:sp>
          <p:nvSpPr>
            <p:cNvPr id="524" name=""/>
            <p:cNvSpPr/>
            <p:nvPr/>
          </p:nvSpPr>
          <p:spPr>
            <a:xfrm>
              <a:off x="4915080" y="3681360"/>
              <a:ext cx="392400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ssibilité d’utiliser Java plutôt que SQL pour les mod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90720" y="3681360"/>
              <a:ext cx="392436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Updatable Result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990720" y="2492280"/>
            <a:ext cx="7848360" cy="1189080"/>
            <a:chOff x="990720" y="2492280"/>
            <a:chExt cx="7848360" cy="1189080"/>
          </a:xfrm>
        </p:grpSpPr>
        <p:sp>
          <p:nvSpPr>
            <p:cNvPr id="527" name=""/>
            <p:cNvSpPr/>
            <p:nvPr/>
          </p:nvSpPr>
          <p:spPr>
            <a:xfrm>
              <a:off x="4915080" y="2492280"/>
              <a:ext cx="39240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Possibilité de se déplacer grâce à des curseurs dans des </a:t>
              </a: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ResultSet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, facilite les GUI et les mises à jour programmatiqu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90720" y="2492280"/>
              <a:ext cx="3924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Scrollable Result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1397160"/>
            <a:ext cx="7848360" cy="1095120"/>
            <a:chOff x="990720" y="1397160"/>
            <a:chExt cx="7848360" cy="1095120"/>
          </a:xfrm>
        </p:grpSpPr>
        <p:sp>
          <p:nvSpPr>
            <p:cNvPr id="530" name=""/>
            <p:cNvSpPr/>
            <p:nvPr/>
          </p:nvSpPr>
          <p:spPr>
            <a:xfrm>
              <a:off x="4915080" y="1397160"/>
              <a:ext cx="3924000" cy="455400"/>
            </a:xfrm>
            <a:prstGeom prst="rect">
              <a:avLst/>
            </a:prstGeom>
            <a:solidFill>
              <a:srgbClr val="4638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énéf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90720" y="1397160"/>
              <a:ext cx="3924360" cy="455400"/>
            </a:xfrm>
            <a:prstGeom prst="rect">
              <a:avLst/>
            </a:prstGeom>
            <a:solidFill>
              <a:srgbClr val="4638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aractéristiq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915080" y="1852560"/>
              <a:ext cx="3924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acilité de développement en offrant une présentation unique de résult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90720" y="1852560"/>
              <a:ext cx="3924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Result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990720" y="1397160"/>
            <a:ext cx="7848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990720" y="249228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90720" y="368136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90720" y="439740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90720" y="521028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90720" y="6022800"/>
            <a:ext cx="7848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90720" y="1397160"/>
            <a:ext cx="0" cy="4625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15080" y="1397160"/>
            <a:ext cx="0" cy="46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839080" y="1397160"/>
            <a:ext cx="0" cy="4625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90720" y="185256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Réfé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JDBC et JAVA - Guide du programmeur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George Reese - Ed. O’Rei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JDBC™ 2.1 AP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ethWhite &amp; Mark Hapner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un Microsystems Inc. – 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java.sun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doc du JDK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steam" descr=""/>
          <p:cNvPicPr/>
          <p:nvPr/>
        </p:nvPicPr>
        <p:blipFill>
          <a:blip r:embed="rId1"/>
          <a:stretch/>
        </p:blipFill>
        <p:spPr>
          <a:xfrm>
            <a:off x="3811680" y="2133720"/>
            <a:ext cx="1520640" cy="228600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990720" y="50292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perso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anadoo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fr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aureli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Générali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JDBC : Java DataBase Conne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ccès aux SGBD (Oracle, mSQL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bstraction et homogénéité grâce à une interface standardisée avec la BDD c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’appuie sur le langage 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implicité de la mise en œuv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60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63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66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Paquetage java.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70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75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81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838080" y="1523880"/>
            <a:ext cx="7924680" cy="1295280"/>
            <a:chOff x="838080" y="1523880"/>
            <a:chExt cx="7924680" cy="1295280"/>
          </a:xfrm>
        </p:grpSpPr>
        <p:sp>
          <p:nvSpPr>
            <p:cNvPr id="89" name=""/>
            <p:cNvSpPr/>
            <p:nvPr/>
          </p:nvSpPr>
          <p:spPr>
            <a:xfrm>
              <a:off x="3200400" y="1523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00400" y="19810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00400" y="24382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Property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15289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1980720" y="1704960"/>
              <a:ext cx="1219680" cy="914400"/>
              <a:chOff x="1980720" y="1704960"/>
              <a:chExt cx="1219680" cy="914400"/>
            </a:xfrm>
          </p:grpSpPr>
          <p:sp>
            <p:nvSpPr>
              <p:cNvPr id="94" name=""/>
              <p:cNvSpPr/>
              <p:nvPr/>
            </p:nvSpPr>
            <p:spPr>
              <a:xfrm>
                <a:off x="2743200" y="2619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43200" y="2162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743200" y="1704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43200" y="17049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1980720" y="17049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781680" y="1523880"/>
              <a:ext cx="1981080" cy="1295280"/>
              <a:chOff x="6781680" y="1523880"/>
              <a:chExt cx="1981080" cy="129528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6781680" y="1523880"/>
                <a:ext cx="1981080" cy="380880"/>
                <a:chOff x="6781680" y="1523880"/>
                <a:chExt cx="1981080" cy="3808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781680" y="15238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781680" y="15238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Connec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781680" y="1981080"/>
                <a:ext cx="1981080" cy="380880"/>
                <a:chOff x="6781680" y="1981080"/>
                <a:chExt cx="1981080" cy="3808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781680" y="19810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781680" y="19810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DatabaseMeta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781680" y="2438280"/>
                <a:ext cx="1981080" cy="380880"/>
                <a:chOff x="6781680" y="2438280"/>
                <a:chExt cx="1981080" cy="380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781680" y="24382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781680" y="24382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Driv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9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110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111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114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117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120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123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127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137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140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143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Pilotes JD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147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152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158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838080" y="1523880"/>
            <a:ext cx="7924680" cy="1295280"/>
            <a:chOff x="838080" y="1523880"/>
            <a:chExt cx="7924680" cy="1295280"/>
          </a:xfrm>
        </p:grpSpPr>
        <p:sp>
          <p:nvSpPr>
            <p:cNvPr id="166" name=""/>
            <p:cNvSpPr/>
            <p:nvPr/>
          </p:nvSpPr>
          <p:spPr>
            <a:xfrm>
              <a:off x="3200400" y="1523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yp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00400" y="19810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00400" y="24382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riverProperty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5289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Ob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980720" y="1704960"/>
              <a:ext cx="1219680" cy="914400"/>
              <a:chOff x="1980720" y="1704960"/>
              <a:chExt cx="1219680" cy="914400"/>
            </a:xfrm>
          </p:grpSpPr>
          <p:sp>
            <p:nvSpPr>
              <p:cNvPr id="171" name=""/>
              <p:cNvSpPr/>
              <p:nvPr/>
            </p:nvSpPr>
            <p:spPr>
              <a:xfrm>
                <a:off x="2743200" y="2619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743200" y="2162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43200" y="1704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43200" y="17049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1980720" y="17049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781680" y="1523880"/>
              <a:ext cx="1981080" cy="1295280"/>
              <a:chOff x="6781680" y="1523880"/>
              <a:chExt cx="1981080" cy="129528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6781680" y="1523880"/>
                <a:ext cx="1981080" cy="380880"/>
                <a:chOff x="6781680" y="1523880"/>
                <a:chExt cx="1981080" cy="3808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781680" y="15238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781680" y="15238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Connec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781680" y="1981080"/>
                <a:ext cx="1981080" cy="380880"/>
                <a:chOff x="6781680" y="1981080"/>
                <a:chExt cx="1981080" cy="3808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781680" y="19810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781680" y="19810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ffff"/>
                      </a:solidFill>
                      <a:latin typeface="Times New Roman"/>
                    </a:rPr>
                    <a:t>DatabaseMetaDa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781680" y="2438280"/>
                <a:ext cx="1981080" cy="380880"/>
                <a:chOff x="6781680" y="2438280"/>
                <a:chExt cx="1981080" cy="3808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781680" y="2438280"/>
                  <a:ext cx="1981080" cy="380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4638b4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781680" y="2438280"/>
                  <a:ext cx="1981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Times New Roman"/>
                    </a:rPr>
                    <a:t>Drive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6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187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188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191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194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197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200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204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553080" y="2286000"/>
            <a:ext cx="243864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Taxinomie des pil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990720" y="1397160"/>
            <a:ext cx="7848360" cy="607680"/>
            <a:chOff x="990720" y="1397160"/>
            <a:chExt cx="7848360" cy="607680"/>
          </a:xfrm>
        </p:grpSpPr>
        <p:sp>
          <p:nvSpPr>
            <p:cNvPr id="216" name=""/>
            <p:cNvSpPr/>
            <p:nvPr/>
          </p:nvSpPr>
          <p:spPr>
            <a:xfrm>
              <a:off x="3124080" y="1397160"/>
              <a:ext cx="5715000" cy="607680"/>
            </a:xfrm>
            <a:prstGeom prst="rect">
              <a:avLst/>
            </a:prstGeom>
            <a:solidFill>
              <a:srgbClr val="4638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aractéristiq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90720" y="1397160"/>
              <a:ext cx="2133360" cy="607680"/>
            </a:xfrm>
            <a:prstGeom prst="rect">
              <a:avLst/>
            </a:prstGeom>
            <a:solidFill>
              <a:srgbClr val="4638b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990720" y="4995720"/>
            <a:ext cx="7848360" cy="970200"/>
            <a:chOff x="990720" y="4995720"/>
            <a:chExt cx="7848360" cy="970200"/>
          </a:xfrm>
        </p:grpSpPr>
        <p:sp>
          <p:nvSpPr>
            <p:cNvPr id="219" name=""/>
            <p:cNvSpPr/>
            <p:nvPr/>
          </p:nvSpPr>
          <p:spPr>
            <a:xfrm>
              <a:off x="3124080" y="4995720"/>
              <a:ext cx="571500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0% Java - </a:t>
              </a:r>
              <a:r>
                <a:rPr b="1" i="1" lang="en-US" sz="1800" spc="-1" strike="noStrike">
                  <a:solidFill>
                    <a:srgbClr val="4638b4"/>
                  </a:solidFill>
                  <a:latin typeface="Times New Roman"/>
                </a:rPr>
                <a:t>pure j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unication en direct à travers un réseau avec l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gestionnaire de base de donné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0720" y="4995720"/>
              <a:ext cx="2133360" cy="9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ype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990720" y="4038480"/>
            <a:ext cx="7848360" cy="957240"/>
            <a:chOff x="990720" y="4038480"/>
            <a:chExt cx="7848360" cy="957240"/>
          </a:xfrm>
        </p:grpSpPr>
        <p:sp>
          <p:nvSpPr>
            <p:cNvPr id="222" name=""/>
            <p:cNvSpPr/>
            <p:nvPr/>
          </p:nvSpPr>
          <p:spPr>
            <a:xfrm>
              <a:off x="3124080" y="4038480"/>
              <a:ext cx="57150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ilotes Java s’appuyant sur une couche réseau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equêtes interprétées au niveau du serveur BD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90720" y="4038480"/>
              <a:ext cx="21333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ype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990720" y="2992320"/>
            <a:ext cx="7848360" cy="1046160"/>
            <a:chOff x="990720" y="2992320"/>
            <a:chExt cx="7848360" cy="1046160"/>
          </a:xfrm>
        </p:grpSpPr>
        <p:sp>
          <p:nvSpPr>
            <p:cNvPr id="225" name=""/>
            <p:cNvSpPr/>
            <p:nvPr/>
          </p:nvSpPr>
          <p:spPr>
            <a:xfrm>
              <a:off x="3124080" y="2992320"/>
              <a:ext cx="571500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ilotes d’API C/C++ natif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écessairement installés sur les postes clien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90720" y="2992320"/>
              <a:ext cx="213336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ype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990720" y="2004840"/>
            <a:ext cx="7848360" cy="987480"/>
            <a:chOff x="990720" y="2004840"/>
            <a:chExt cx="7848360" cy="987480"/>
          </a:xfrm>
        </p:grpSpPr>
        <p:sp>
          <p:nvSpPr>
            <p:cNvPr id="228" name=""/>
            <p:cNvSpPr/>
            <p:nvPr/>
          </p:nvSpPr>
          <p:spPr>
            <a:xfrm>
              <a:off x="3124080" y="2004840"/>
              <a:ext cx="57150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Technologie de po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Exemple typique : </a:t>
              </a:r>
              <a:r>
                <a:rPr b="1" i="1" lang="fr-FR" sz="1800" spc="-1" strike="noStrike">
                  <a:solidFill>
                    <a:srgbClr val="000000"/>
                  </a:solidFill>
                  <a:latin typeface="Times New Roman"/>
                </a:rPr>
                <a:t>JdbcOdbcDriver</a:t>
              </a: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 livré avec le JD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90720" y="2004840"/>
              <a:ext cx="21333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ype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990720" y="1397160"/>
            <a:ext cx="7848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299232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403848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499572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965920"/>
            <a:ext cx="7848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1397160"/>
            <a:ext cx="0" cy="4568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1397160"/>
            <a:ext cx="0" cy="456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839080" y="1397160"/>
            <a:ext cx="0" cy="45687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200484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4638b4"/>
                </a:solidFill>
                <a:uFillTx/>
                <a:latin typeface="Times New Roman"/>
              </a:rPr>
              <a:t>Chargement de pil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05120"/>
          </a:xfrm>
          <a:prstGeom prst="rect">
            <a:avLst/>
          </a:prstGeom>
          <a:noFill/>
          <a:ln w="9360">
            <a:solidFill>
              <a:srgbClr val="4638b4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lass.forName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sun.jdbc.odbc.JdbcOdbcDriver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lass.forName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oracle.jdbc.driver.OracleDriver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fr-FR" sz="1600" spc="-1" strike="noStrike">
                <a:solidFill>
                  <a:srgbClr val="de041a"/>
                </a:solidFill>
                <a:latin typeface="Courier New"/>
              </a:rPr>
              <a:t>ClassNotFoundException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 e) {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ystem.err.println(</a:t>
            </a:r>
            <a:r>
              <a:rPr b="0" lang="fr-FR" sz="1600" spc="-1" strike="noStrike">
                <a:solidFill>
                  <a:srgbClr val="4638b4"/>
                </a:solidFill>
                <a:latin typeface="Courier New"/>
              </a:rPr>
              <a:t>"JDBC driver not found."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38098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hargement dynamique de classes 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Pont ODBC (Type 1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Pilote natif Oracle (Type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s pilotes se déclarent auprès du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DriverMana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762120" y="3581280"/>
            <a:ext cx="1295280" cy="1828800"/>
            <a:chOff x="762120" y="3581280"/>
            <a:chExt cx="1295280" cy="1828800"/>
          </a:xfrm>
        </p:grpSpPr>
        <p:sp>
          <p:nvSpPr>
            <p:cNvPr id="244" name=""/>
            <p:cNvSpPr/>
            <p:nvPr/>
          </p:nvSpPr>
          <p:spPr>
            <a:xfrm>
              <a:off x="762120" y="3592440"/>
              <a:ext cx="1295280" cy="181764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1817640"/>
                <a:gd name="textAreaBottom" fmla="*/ 1793520 h 1817640"/>
              </a:gdLst>
              <a:ahLst/>
              <a:rect l="textAreaLeft" t="textAreaTop" r="textAreaRight" b="textAreaBottom"/>
              <a:pathLst>
                <a:path w="21600" h="30308">
                  <a:moveTo>
                    <a:pt x="1376" y="0"/>
                  </a:moveTo>
                  <a:arcTo wR="1376" hR="1376" stAng="16200000" swAng="-5400000"/>
                  <a:lnTo>
                    <a:pt x="0" y="28932"/>
                  </a:lnTo>
                  <a:arcTo wR="1376" hR="1376" stAng="10800000" swAng="-5400000"/>
                  <a:lnTo>
                    <a:pt x="20224" y="30308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89840" y="358128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ut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133720" y="1038240"/>
            <a:ext cx="6858000" cy="4371840"/>
            <a:chOff x="2133720" y="1038240"/>
            <a:chExt cx="6858000" cy="4371840"/>
          </a:xfrm>
        </p:grpSpPr>
        <p:sp>
          <p:nvSpPr>
            <p:cNvPr id="247" name=""/>
            <p:cNvSpPr/>
            <p:nvPr/>
          </p:nvSpPr>
          <p:spPr>
            <a:xfrm>
              <a:off x="2133720" y="1066680"/>
              <a:ext cx="6858000" cy="4343400"/>
            </a:xfrm>
            <a:prstGeom prst="roundRect">
              <a:avLst>
                <a:gd name="adj" fmla="val 1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7440" y="1038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sq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762120" y="1047600"/>
            <a:ext cx="1295280" cy="2457360"/>
            <a:chOff x="762120" y="1047600"/>
            <a:chExt cx="1295280" cy="2457360"/>
          </a:xfrm>
        </p:grpSpPr>
        <p:sp>
          <p:nvSpPr>
            <p:cNvPr id="250" name=""/>
            <p:cNvSpPr/>
            <p:nvPr/>
          </p:nvSpPr>
          <p:spPr>
            <a:xfrm>
              <a:off x="762120" y="1063080"/>
              <a:ext cx="1295280" cy="2441880"/>
            </a:xfrm>
            <a:custGeom>
              <a:avLst/>
              <a:gdLst>
                <a:gd name="textAreaLeft" fmla="*/ 24120 w 1295280"/>
                <a:gd name="textAreaRight" fmla="*/ 1271160 w 1295280"/>
                <a:gd name="textAreaTop" fmla="*/ 24120 h 2441880"/>
                <a:gd name="textAreaBottom" fmla="*/ 2417760 h 2441880"/>
              </a:gdLst>
              <a:ahLst/>
              <a:rect l="textAreaLeft" t="textAreaTop" r="textAreaRight" b="textAreaBottom"/>
              <a:pathLst>
                <a:path w="21600" h="40715">
                  <a:moveTo>
                    <a:pt x="1376" y="0"/>
                  </a:moveTo>
                  <a:arcTo wR="1376" hR="1376" stAng="16200000" swAng="-5400000"/>
                  <a:lnTo>
                    <a:pt x="0" y="39339"/>
                  </a:lnTo>
                  <a:arcTo wR="1376" hR="1376" stAng="10800000" swAng="-5400000"/>
                  <a:lnTo>
                    <a:pt x="20224" y="40715"/>
                  </a:lnTo>
                  <a:arcTo wR="1376" hR="1376" stAng="5400000" swAng="-5400000"/>
                  <a:lnTo>
                    <a:pt x="21600" y="1376"/>
                  </a:lnTo>
                  <a:arcTo wR="1376" hR="1376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0200" y="104760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de041a"/>
                  </a:solidFill>
                  <a:latin typeface="Times New Roman"/>
                </a:rPr>
                <a:t>java.la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Connex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38080" y="4038480"/>
            <a:ext cx="4343400" cy="1282680"/>
            <a:chOff x="838080" y="4038480"/>
            <a:chExt cx="4343400" cy="1282680"/>
          </a:xfrm>
        </p:grpSpPr>
        <p:sp>
          <p:nvSpPr>
            <p:cNvPr id="254" name=""/>
            <p:cNvSpPr/>
            <p:nvPr/>
          </p:nvSpPr>
          <p:spPr>
            <a:xfrm>
              <a:off x="3200400" y="40384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00400" y="44956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00400" y="4952880"/>
              <a:ext cx="1981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Timestam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080" y="404352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980720" y="4219560"/>
              <a:ext cx="1219680" cy="914400"/>
              <a:chOff x="1980720" y="4219560"/>
              <a:chExt cx="1219680" cy="914400"/>
            </a:xfrm>
          </p:grpSpPr>
          <p:sp>
            <p:nvSpPr>
              <p:cNvPr id="259" name=""/>
              <p:cNvSpPr/>
              <p:nvPr/>
            </p:nvSpPr>
            <p:spPr>
              <a:xfrm>
                <a:off x="2743200" y="5133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743200" y="46767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743200" y="4219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43200" y="421956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1980720" y="42195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838080" y="2976480"/>
            <a:ext cx="7925040" cy="368280"/>
            <a:chOff x="838080" y="2976480"/>
            <a:chExt cx="7925040" cy="368280"/>
          </a:xfrm>
        </p:grpSpPr>
        <p:sp>
          <p:nvSpPr>
            <p:cNvPr id="265" name=""/>
            <p:cNvSpPr/>
            <p:nvPr/>
          </p:nvSpPr>
          <p:spPr>
            <a:xfrm>
              <a:off x="3200400" y="2976480"/>
              <a:ext cx="1600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520" y="2976480"/>
              <a:ext cx="167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QLW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86600" y="2976480"/>
              <a:ext cx="16765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DataTrun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8080" y="2976480"/>
              <a:ext cx="1143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4638b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ce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81080" y="3157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0060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81680" y="31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200400" y="15238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63504" dir="3183908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0400" y="19810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river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243828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riverProperty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1528920"/>
            <a:ext cx="1143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980720" y="1704960"/>
            <a:ext cx="1219680" cy="914400"/>
            <a:chOff x="1980720" y="1704960"/>
            <a:chExt cx="1219680" cy="914400"/>
          </a:xfrm>
        </p:grpSpPr>
        <p:sp>
          <p:nvSpPr>
            <p:cNvPr id="277" name=""/>
            <p:cNvSpPr/>
            <p:nvPr/>
          </p:nvSpPr>
          <p:spPr>
            <a:xfrm>
              <a:off x="2743200" y="26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43200" y="21621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43200" y="1704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43200" y="17049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980720" y="17049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781680" y="1523880"/>
            <a:ext cx="1981080" cy="380880"/>
            <a:chOff x="6781680" y="1523880"/>
            <a:chExt cx="1981080" cy="380880"/>
          </a:xfrm>
        </p:grpSpPr>
        <p:sp>
          <p:nvSpPr>
            <p:cNvPr id="283" name=""/>
            <p:cNvSpPr/>
            <p:nvPr/>
          </p:nvSpPr>
          <p:spPr>
            <a:xfrm>
              <a:off x="6781680" y="15238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81680" y="15238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781680" y="1981080"/>
            <a:ext cx="1981080" cy="380880"/>
            <a:chOff x="6781680" y="1981080"/>
            <a:chExt cx="1981080" cy="380880"/>
          </a:xfrm>
        </p:grpSpPr>
        <p:sp>
          <p:nvSpPr>
            <p:cNvPr id="286" name=""/>
            <p:cNvSpPr/>
            <p:nvPr/>
          </p:nvSpPr>
          <p:spPr>
            <a:xfrm>
              <a:off x="6781680" y="19810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81680" y="19810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DatabaseMeta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781680" y="2438280"/>
            <a:ext cx="1981080" cy="380880"/>
            <a:chOff x="6781680" y="2438280"/>
            <a:chExt cx="1981080" cy="380880"/>
          </a:xfrm>
        </p:grpSpPr>
        <p:sp>
          <p:nvSpPr>
            <p:cNvPr id="289" name=""/>
            <p:cNvSpPr/>
            <p:nvPr/>
          </p:nvSpPr>
          <p:spPr>
            <a:xfrm>
              <a:off x="6781680" y="243828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cap="rnd" w="28440">
              <a:solidFill>
                <a:srgbClr val="de041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81680" y="2438280"/>
              <a:ext cx="1981080" cy="368280"/>
            </a:xfrm>
            <a:prstGeom prst="rect">
              <a:avLst/>
            </a:prstGeom>
            <a:noFill/>
            <a:ln cap="rnd" w="28440">
              <a:solidFill>
                <a:srgbClr val="de041a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r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781680" y="4495680"/>
            <a:ext cx="1981080" cy="838080"/>
            <a:chOff x="6781680" y="4495680"/>
            <a:chExt cx="1981080" cy="838080"/>
          </a:xfrm>
        </p:grpSpPr>
        <p:grpSp>
          <p:nvGrpSpPr>
            <p:cNvPr id="292" name=""/>
            <p:cNvGrpSpPr/>
            <p:nvPr/>
          </p:nvGrpSpPr>
          <p:grpSpPr>
            <a:xfrm>
              <a:off x="6781680" y="4495680"/>
              <a:ext cx="1981080" cy="380880"/>
              <a:chOff x="6781680" y="4495680"/>
              <a:chExt cx="1981080" cy="380880"/>
            </a:xfrm>
          </p:grpSpPr>
          <p:sp>
            <p:nvSpPr>
              <p:cNvPr id="293" name=""/>
              <p:cNvSpPr/>
              <p:nvPr/>
            </p:nvSpPr>
            <p:spPr>
              <a:xfrm>
                <a:off x="6781680" y="44956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81680" y="44956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6781680" y="4952880"/>
              <a:ext cx="1981080" cy="380880"/>
              <a:chOff x="6781680" y="4952880"/>
              <a:chExt cx="1981080" cy="380880"/>
            </a:xfrm>
          </p:grpSpPr>
          <p:sp>
            <p:nvSpPr>
              <p:cNvPr id="296" name=""/>
              <p:cNvSpPr/>
              <p:nvPr/>
            </p:nvSpPr>
            <p:spPr>
              <a:xfrm>
                <a:off x="6781680" y="4952880"/>
                <a:ext cx="198108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4638b4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81680" y="4952880"/>
                <a:ext cx="198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ffff"/>
                    </a:solidFill>
                    <a:latin typeface="Times New Roman"/>
                  </a:rPr>
                  <a:t>ResultSetMetaDa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2209680" y="3505320"/>
            <a:ext cx="1981080" cy="380880"/>
            <a:chOff x="2209680" y="3505320"/>
            <a:chExt cx="1981080" cy="380880"/>
          </a:xfrm>
        </p:grpSpPr>
        <p:sp>
          <p:nvSpPr>
            <p:cNvPr id="299" name=""/>
            <p:cNvSpPr/>
            <p:nvPr/>
          </p:nvSpPr>
          <p:spPr>
            <a:xfrm>
              <a:off x="2209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09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781680" y="3505320"/>
            <a:ext cx="1981080" cy="380880"/>
            <a:chOff x="6781680" y="3505320"/>
            <a:chExt cx="1981080" cy="380880"/>
          </a:xfrm>
        </p:grpSpPr>
        <p:sp>
          <p:nvSpPr>
            <p:cNvPr id="302" name=""/>
            <p:cNvSpPr/>
            <p:nvPr/>
          </p:nvSpPr>
          <p:spPr>
            <a:xfrm>
              <a:off x="6781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81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Callable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495680" y="3505320"/>
            <a:ext cx="1981080" cy="380880"/>
            <a:chOff x="4495680" y="3505320"/>
            <a:chExt cx="1981080" cy="380880"/>
          </a:xfrm>
        </p:grpSpPr>
        <p:sp>
          <p:nvSpPr>
            <p:cNvPr id="305" name=""/>
            <p:cNvSpPr/>
            <p:nvPr/>
          </p:nvSpPr>
          <p:spPr>
            <a:xfrm>
              <a:off x="4495680" y="3505320"/>
              <a:ext cx="198108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95680" y="3505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Prepared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54864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4638b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657600" y="5943600"/>
            <a:ext cx="1980720" cy="380880"/>
            <a:chOff x="3657600" y="5943600"/>
            <a:chExt cx="1980720" cy="380880"/>
          </a:xfrm>
        </p:grpSpPr>
        <p:sp>
          <p:nvSpPr>
            <p:cNvPr id="309" name=""/>
            <p:cNvSpPr/>
            <p:nvPr/>
          </p:nvSpPr>
          <p:spPr>
            <a:xfrm>
              <a:off x="3657600" y="5943600"/>
              <a:ext cx="1980720" cy="380880"/>
            </a:xfrm>
            <a:prstGeom prst="roundRect">
              <a:avLst>
                <a:gd name="adj" fmla="val 16667"/>
              </a:avLst>
            </a:prstGeom>
            <a:solidFill>
              <a:srgbClr val="4638b4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657600" y="5943600"/>
              <a:ext cx="19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129040" y="548640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e041a"/>
                </a:solidFill>
                <a:latin typeface="Times New Roman"/>
              </a:rPr>
              <a:t>LEG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91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3686040"/>
            <a:ext cx="304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0800" y="5667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486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é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00800" y="613872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81680" y="5958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1828800"/>
            <a:ext cx="2514600" cy="685800"/>
          </a:xfrm>
          <a:prstGeom prst="ellipse">
            <a:avLst/>
          </a:prstGeom>
          <a:noFill/>
          <a:ln w="57240">
            <a:solidFill>
              <a:srgbClr val="de0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2133720"/>
            <a:ext cx="1295280" cy="380880"/>
          </a:xfrm>
          <a:prstGeom prst="line">
            <a:avLst/>
          </a:prstGeom>
          <a:ln cap="rnd" w="38160">
            <a:solidFill>
              <a:srgbClr val="de041a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2286000"/>
            <a:ext cx="1371600" cy="457200"/>
          </a:xfrm>
          <a:prstGeom prst="line">
            <a:avLst/>
          </a:prstGeom>
          <a:ln cap="rnd" w="38160">
            <a:solidFill>
              <a:srgbClr val="de041a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410080" y="1371600"/>
            <a:ext cx="3581640" cy="685800"/>
            <a:chOff x="5410080" y="1371600"/>
            <a:chExt cx="3581640" cy="685800"/>
          </a:xfrm>
        </p:grpSpPr>
        <p:sp>
          <p:nvSpPr>
            <p:cNvPr id="322" name=""/>
            <p:cNvSpPr/>
            <p:nvPr/>
          </p:nvSpPr>
          <p:spPr>
            <a:xfrm>
              <a:off x="6553080" y="1371600"/>
              <a:ext cx="2438640" cy="685800"/>
            </a:xfrm>
            <a:prstGeom prst="ellipse">
              <a:avLst/>
            </a:prstGeom>
            <a:noFill/>
            <a:ln w="57240">
              <a:solidFill>
                <a:srgbClr val="de04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410080" y="1752120"/>
              <a:ext cx="1143000" cy="304920"/>
            </a:xfrm>
            <a:prstGeom prst="line">
              <a:avLst/>
            </a:prstGeom>
            <a:ln w="38160">
              <a:solidFill>
                <a:srgbClr val="de041a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3048120" y="2819520"/>
            <a:ext cx="1981080" cy="685800"/>
          </a:xfrm>
          <a:prstGeom prst="ellipse">
            <a:avLst/>
          </a:prstGeom>
          <a:noFill/>
          <a:ln cap="rnd" w="57240">
            <a:solidFill>
              <a:srgbClr val="4638b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4638b4"/>
                </a:solidFill>
                <a:uFillTx/>
                <a:latin typeface="Times New Roman"/>
              </a:rPr>
              <a:t>Database U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classe DriverManager est responsable de la communication avec les pilotes charg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281952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gérer une connexion, la classe DriverManager analyse l’URL :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jdbc:</a:t>
            </a:r>
            <a:r>
              <a:rPr b="1" lang="fr-FR" sz="2000" spc="-1" strike="noStrike">
                <a:solidFill>
                  <a:srgbClr val="4638b4"/>
                </a:solidFill>
                <a:latin typeface="Courier New"/>
              </a:rPr>
              <a:t>sous-protocol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lang="fr-FR" sz="2000" spc="-1" strike="noStrike">
                <a:solidFill>
                  <a:srgbClr val="de041a"/>
                </a:solidFill>
                <a:latin typeface="Courier New"/>
              </a:rPr>
              <a:t>sous-n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4638b4"/>
                </a:solidFill>
                <a:latin typeface="Times New Roman"/>
              </a:rPr>
              <a:t>sous-protoco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identifie le pilote adéquat.</a:t>
            </a:r>
            <a:br>
              <a:rPr sz="2400"/>
            </a:br>
            <a:r>
              <a:rPr b="0" lang="fr-FR" sz="2400" spc="-1" strike="noStrike">
                <a:solidFill>
                  <a:srgbClr val="de041a"/>
                </a:solidFill>
                <a:latin typeface="Times New Roman"/>
              </a:rPr>
              <a:t>sous-no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indique toutes les précisions nécessaires à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connex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17:07:25Z</dcterms:created>
  <dc:creator>Aurélien DELEUSIÈRE</dc:creator>
  <dc:description/>
  <dc:language>en-US</dc:language>
  <cp:lastModifiedBy>Aurélien DELEUSIÈRE</cp:lastModifiedBy>
  <dcterms:modified xsi:type="dcterms:W3CDTF">2000-11-09T18:16:22Z</dcterms:modified>
  <cp:revision>46</cp:revision>
  <dc:subject/>
  <dc:title>JDBC™ 2.1 API</dc:title>
</cp:coreProperties>
</file>