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37C-C3EC-4B9F-BC6F-6BE7E239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D13-D1E8-4D91-846B-D4CD697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1E7-C0EA-40BD-84F1-8E8789C5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9DA-E368-4213-8F2C-2543377C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76A0-31DB-41EC-95DD-951D6F8C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C75C-767B-455A-853E-18B65244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560-0D81-46AD-B6DF-7FB1AFF1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225-AAC1-47A8-84B3-9C28E18F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EC83-17F5-480B-AA7F-0AC070DB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8945-86B7-4AF1-9F4F-2FDD33EA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6127-FF50-4C68-8F6C-ECF0656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AB4-CF53-4DB1-A87B-65D2B41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6A8D-8038-4DA5-80BD-1139F46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0EF9-38D7-41BA-9D27-CFC3079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DB5C-F88E-4395-98E0-DF03A92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9865-002B-43F2-B80C-2B7D5CE9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F5C1-5D54-4C77-BD2E-EF669686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F13-6AF9-4DC4-8657-29150A1F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7EE-6B89-4958-AB6C-A28046F1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2FD-AD6F-427C-8FCD-7B1013D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0CB-50D1-49AD-8767-3604746C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153-3843-4688-9A20-73C4D012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FF6-75DF-465C-BA75-3F71897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EED-91DA-4870-A62E-31526B8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AB0B-ED08-4D7D-A79C-8DEFC8FCF87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6A1-29BA-45DB-B993-CA746D79E090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yun@free.fr" TargetMode="External"/><Relationship Id="rId2" Type="http://schemas.openxmlformats.org/officeDocument/2006/relationships/hyperlink" Target="mailto:liyun@free.fr" TargetMode="External"/><Relationship Id="rId3" Type="http://schemas.openxmlformats.org/officeDocument/2006/relationships/hyperlink" Target="mailto:liyun@free.fr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univ-mlv.fr/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nort.org/" TargetMode="External"/><Relationship Id="rId2" Type="http://schemas.openxmlformats.org/officeDocument/2006/relationships/hyperlink" Target="http://www.snort.org/" TargetMode="External"/><Relationship Id="rId3" Type="http://schemas.openxmlformats.org/officeDocument/2006/relationships/hyperlink" Target="http://www.snort.org/" TargetMode="External"/><Relationship Id="rId4" Type="http://schemas.openxmlformats.org/officeDocument/2006/relationships/hyperlink" Target="http://www.snort.org/" TargetMode="External"/><Relationship Id="rId5" Type="http://schemas.openxmlformats.org/officeDocument/2006/relationships/hyperlink" Target="http://www.snort.org/" TargetMode="External"/><Relationship Id="rId6" Type="http://schemas.openxmlformats.org/officeDocument/2006/relationships/hyperlink" Target="http://www.linuxsecurity.com/" TargetMode="External"/><Relationship Id="rId7" Type="http://schemas.openxmlformats.org/officeDocument/2006/relationships/hyperlink" Target="http://www.linuxsecurity.com/" TargetMode="External"/><Relationship Id="rId8" Type="http://schemas.openxmlformats.org/officeDocument/2006/relationships/hyperlink" Target="http://www.linuxsecurity.com/" TargetMode="External"/><Relationship Id="rId9" Type="http://schemas.openxmlformats.org/officeDocument/2006/relationships/hyperlink" Target="http://www.linuxsecurity.com/" TargetMode="External"/><Relationship Id="rId10" Type="http://schemas.openxmlformats.org/officeDocument/2006/relationships/hyperlink" Target="http://www.linuxsecurity.com/" TargetMode="External"/><Relationship Id="rId11" Type="http://schemas.openxmlformats.org/officeDocument/2006/relationships/hyperlink" Target="http://www.securityfocus.com/" TargetMode="External"/><Relationship Id="rId12" Type="http://schemas.openxmlformats.org/officeDocument/2006/relationships/hyperlink" Target="http://www.securityfocus.com/" TargetMode="External"/><Relationship Id="rId13" Type="http://schemas.openxmlformats.org/officeDocument/2006/relationships/hyperlink" Target="http://www.securityfocus.com/" TargetMode="External"/><Relationship Id="rId14" Type="http://schemas.openxmlformats.org/officeDocument/2006/relationships/hyperlink" Target="http://www.securityfocus.com/" TargetMode="External"/><Relationship Id="rId15" Type="http://schemas.openxmlformats.org/officeDocument/2006/relationships/hyperlink" Target="http://www.securityfocus.com/" TargetMode="External"/><Relationship Id="rId16" Type="http://schemas.openxmlformats.org/officeDocument/2006/relationships/hyperlink" Target="http://www.robertgraham.com/pubs" TargetMode="External"/><Relationship Id="rId17" Type="http://schemas.openxmlformats.org/officeDocument/2006/relationships/hyperlink" Target="http://www.hsc.fr/ressources" TargetMode="External"/><Relationship Id="rId18" Type="http://schemas.openxmlformats.org/officeDocument/2006/relationships/hyperlink" Target="http://www.hsc.fr/ressources" TargetMode="External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771200"/>
            <a:ext cx="746748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ystème de Détection d’Intrusions</a:t>
            </a: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( IDS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yun LI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R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yun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free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18907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logo-umlv" descr="Université de Marne La Vallé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33520"/>
            <a:ext cx="1496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un Internet Detection System (IDS)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système qui  détecte (tente de détecter) les in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processus de découverte et d’analyse de comportements hostiles dirigé contre un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urquoi un IDS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sécurité active n’est pas suffis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pare-feux ne contrent pas toutes les men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novation constante des techniques de h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aille potentielle selon les fonctionnalités des systè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ailles inhérentes de certains OS ;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urquoi un I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monter la source de l’atta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es techniques employ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 cas d’intrusion, les traces sont preuves 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mplémenta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IDS : détecte les (tentatives) d’intrusions grâce à une base de sign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is il n’ARRETE pas l’intrusion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pture les infos et les techniques de l’attaqu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ide indispensable pour se prémunir des intrusions en prenant les mesures de sécurité adéqu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architecture" descr=""/>
          <p:cNvPicPr/>
          <p:nvPr/>
        </p:nvPicPr>
        <p:blipFill>
          <a:blip r:embed="rId1"/>
          <a:stretch/>
        </p:blipFill>
        <p:spPr>
          <a:xfrm>
            <a:off x="-795240" y="-376200"/>
            <a:ext cx="10734480" cy="76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usieurs types d’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ID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Network Internet Detec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HID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Host Internet Detec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systèmes hybrides :mélange de HIDS et N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Honeypot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« pots de miel », leur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NIDS et HIDS: généralité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IDS analysent des flux résea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HIDS se basent sur la surveillance des hôtes par l’analyse des logs de l’hô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2 sont com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Un NIDS de base : Tcpdu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util de base indispensable pour l’analyse rés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sponible sur toutes les plateformes UN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rmet l’écriture de filtres simples pour surveiller des types de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emple de mise en situation dans le scan suiva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simple de sc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Starting nmap V. 2.53 by fyodor@insecure.org ( www.insecure.org/nmap/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Interesting ports on  (192.168.1.3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Port       State      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53/udp     open       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Nmap run completed -- 1 IP address (1 host up) scanned in 1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Exemple comm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cpdump host 192.168.1.30 and ip[9]=17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qui signif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« Affiche moi sur la sortie standard tous les datagrammes dont le 9ème octet est à 17, protocole UDP  (cf Datagramme IP) 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ques chiffres sur le pira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ut de la sécu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finition d’une attaque et d’une intr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types de sécurité: active et pas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atagramme 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IP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201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de sortie tcpdu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</a:rPr>
              <a:t>Si sur la machine 192.168.1.30 ,root ta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cpdump host 192.168.1.30 and ip[9]=17 -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cpdump: listening on eth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05:06:08.294790 192.168.1.1.43976 &gt; 192.168.1.30.53: 0 [20484q] [43012n] 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05:06:08.624790 192.168.1.1.43977 &gt; 192.168.1.30.53: 0 [20484q] [43012n] 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r cette sortie, la cible verra que tous les datagrammes UDP sur le port domaine (53). Ici en 192.168.1.1 essaie de communiquer avec le port 53 de 192.168.1.1</a:t>
            </a: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Tcpdump est l ’outil de base   pour le traffic résesa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nort : NIDS puiss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giciel open source,modulaire et de petite tai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eur : Martin Roe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rsion actuelle 1.8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ion en temps ré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Gigantesqu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bibliothèque de signatures d’attaques constamment mise à j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snort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057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n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ichier de configuration 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ngage de description simple et facile à utili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e en-tê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pécifie les filtrages sur les adresses, les ports sources et destinations, ainsi que la direction et l'action (alert, pass, lo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Fonctionnali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a l’attaque par fragmentation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de nombreux protocoles ( IP, TCP, UDP, ICMP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es scans de ports initié par nm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trait d’un exe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stem"/>
              </a:rPr>
              <a:t>alert tcp $EXTERNAL_NET any -&gt; $HTTP_SERVERS 80 (msg:"WEB-ATTACKS chown command attempt"; flags:A+; content:"/usr/sbin/chown";nocase; sid:1338; rev:1; classtype:web-application-attack;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stem"/>
              </a:rPr>
              <a:t>Explica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Si Snort voit un paquet à destination du serveur Web port 80 avec un le drapeau </a:t>
            </a:r>
            <a:r>
              <a:rPr b="1" i="1" lang="fr-FR" sz="2400" spc="-1" strike="noStrike">
                <a:solidFill>
                  <a:srgbClr val="000000"/>
                </a:solidFill>
                <a:latin typeface="System"/>
              </a:rPr>
              <a:t>ack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 positionné à 1 et contenant comme données « </a:t>
            </a:r>
            <a:r>
              <a:rPr b="1" i="1" lang="fr-FR" sz="2400" spc="-1" strike="noStrike">
                <a:solidFill>
                  <a:srgbClr val="000000"/>
                </a:solidFill>
                <a:latin typeface="System"/>
              </a:rPr>
              <a:t>/usr/sbin/chown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 », alors une alerte est envoyé vers l’administrate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ost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’installe sur un serv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vertit l’administrateur en cas de compromission de l’hô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t basé sur l’intégrité du systè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Un HIDS : Tripw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ipwire compare les résultats avec la base de référence générée préalablement (md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arce que l'empreinte générée sur un fichier ne peut être reproduite deux fois à l'identiqu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ripw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ripwire en sché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(source redha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tripwire_schema" descr=""/>
          <p:cNvPicPr/>
          <p:nvPr/>
        </p:nvPicPr>
        <p:blipFill>
          <a:blip r:embed="rId1"/>
          <a:stretch/>
        </p:blipFill>
        <p:spPr>
          <a:xfrm>
            <a:off x="4344840" y="380880"/>
            <a:ext cx="518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ripwire :cas d’utilisation optim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tocker les exécutables sur support amovible protégé en écriture  (disquette, lecteur zip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érifier quotidiennement (via cron ) l’intégrité des fichiers systèmes critiques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(partie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’est ce qu’un ID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’utilité d’un 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s d’IDS: NIDS et H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mentarité des 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’un NIDS basic: TCPDU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es fonctionnalités de Snort (NI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’un HIDS : Trip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si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fichier /etc/tripwire/twpol.txt liste la l’ensemble des fichiers à protéger pour lesquels il génère un checks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xemple : supposons qu ’on ai réussit à modifier la commande « cat » en « cata 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voie d’un mail à root lors de la prochaine vérification de l’intég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Faiblesse des N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 performants sur les réseaux Ethernet 100 M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Ne détecte pas tout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echniques pour contrer les NIDS évolu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 d'années d'expé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mande du personnel paranoïaqu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ypes d’atta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Mitn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Tear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oneypots (Pots de mie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système pour leurrer le pi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ise en place de faux serveurs avec peu de prot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mulation de l’activité d’un rés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ut: récolter les traces et les techniques de l’attaqu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37080" y="3405240"/>
            <a:ext cx="68400" cy="57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9360" y="3557520"/>
            <a:ext cx="68400" cy="5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482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rtsentry: un IDS a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giciel li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ction des scans de ports furtifs ou 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t Portsentry détecte les scans de ports spécifiés dans /etc/portsentry/portsentry.conf, alors il ag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3 méthodes de </a:t>
            </a: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réaction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dynam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e4a8"/>
                </a:solidFill>
                <a:latin typeface="Tahoma"/>
              </a:rPr>
              <a:t>Méthod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i TCPWrapper est installé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2667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jout dynamique dans /etc/hosts.deny de l’adresse IP de l’attaquant et lui interdit tous les services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ALL: $TARGET : DENY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Méthode 2 e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e4a8"/>
                </a:solidFill>
                <a:latin typeface="Tahoma"/>
              </a:rPr>
              <a:t>Méthode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jout d’une règle dynamique dans les règles du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iptables -I INPUT -s $TARGET -j D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e4a8"/>
                </a:solidFill>
                <a:latin typeface="Tahoma"/>
              </a:rPr>
              <a:t>Méthode 3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fus de routage explicite vers l’agresseur qui se fait aussi dynamiqu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route add -host $TARGET rejec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CPWrap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CPWrapper travaille main dans la main avec ine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fonction des services demandés, TCPWrapper peut les refuser ou les accep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’idée est la suivant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fuser tous les hosts par défaut à exploiter les services du serv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uis d’autoriser explicitement l’ip des hosts à accéder à aux services demand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bonnes habitudes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ors de l’installation d’un nouveau programme, tester la valeur de retour md5sum sur un programme pour vérifier son intégrité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Banissez les rhost, rlogin, rexec, rsh rlogin, telnet ..!!!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car les mots de passe circulent en clair sur le réseau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tiliser ssh à partir des versions 2.9.x, (pensez à dsniff et l’attaque man-in-the-middle par Dug Song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venir des 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DS ( Linux ID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volution de Sn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rtsentry, Sha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(partie 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types d’atta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Honeypots: les leur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ques bonnes hab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venir des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HIDS et les NIDS sont des éléments qui contribuent à améliorer la sécurité des réseau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ttre à jour aussi souvent que possible les bases de signatures d’attaques (cf www.snort.or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emps de réaction rapide pour rester effic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: le cocktail gagn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lus les données sont vitales, plus les mesures de précautions doivent être paranoïaques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ssi, utilisez une package de logiciels libres composés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{ Iptables, TCPWrapper, Snort, Portsenty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…….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L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les logs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mot de la f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sécurité : c’est comme une partie d’échecs contre les pirates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5811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us d’inf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hadowconf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, Shadow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étection des intrusions réseau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ephen Nortcutt, Judy Novak, Donald MacLahan editions Campus P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s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nort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linuxsecurity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securityfocus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http://www.robertgraham.com/pu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http://www.hsc.fr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res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44756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chiffres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317840" cy="263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4343400" y="2438280"/>
            <a:ext cx="4800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Intr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$ Losses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formation Thef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42,49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nancial frau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39,70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use of net ac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7,57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us attack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5,274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bot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4,421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der misu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3,567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ider Penet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2,885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--------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05,925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867280"/>
            <a:ext cx="746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 “1999 CSI/FBI Computer Crime and Security Survey” Computer Security Institute - www.gocsi.com/losses.htm</a:t>
            </a:r>
            <a:br>
              <a:rPr sz="2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But la sécurité informat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éger un réseau qui est connecté à d’autres réseaux non sécurisés (ex: Intern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oriser l’accès à certains servic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uniquement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(Web, mail, ftp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e prémunir contre des attaques et in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ce qu’une attaqu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couverte systématique d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’information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du réseau par d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scan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e port et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balayag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u résea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entative réelle d’intrusion dans un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ce qu’une intrusion ?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se de contrôle à distance (totale ou partielle) d’un ou de plusieurs serveurs ou hô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ans 9 cas sur 10, une intrusion est précédée d’une atta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ype de sécu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chématiquement il existe 2 types de sécurit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sécurité ac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tion sur sur les flux (autorisation , interdictio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e-feux, relais applicatifs, relayeur de messageri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sécurité pas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’agit pas sur les flux ent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nte de reconnaître des flux hos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21:07:19Z</dcterms:created>
  <dc:creator>3k</dc:creator>
  <dc:description/>
  <dc:language>en-US</dc:language>
  <cp:lastModifiedBy>3k</cp:lastModifiedBy>
  <dcterms:modified xsi:type="dcterms:W3CDTF">2002-02-08T18:15:03Z</dcterms:modified>
  <cp:revision>32</cp:revision>
  <dc:subject/>
  <dc:title>Détection d’intrusion</dc:title>
</cp:coreProperties>
</file>