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4DF9-6282-4D02-AB57-87EA9C2CB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cessus discute avec un copie de lui même. Le fils continue à exécuter le script au lieu d’essayer d’exécuter un autre commande.|- la fin du pipe est rattaché au STDIN du f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 attache le pipe au STDOUT( c’est à dire que l’on lira sur le handle de fichier ce qu’ecrit le fil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ation du module standard de la bibliothèque IPC::Open2. Cette fonction attache un pipe a STDIN et un pipe autre à STDOUT d’un sous-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ème qui se pose tient au système de tampons d’UNIX, car si on envoie u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et de mettre en place un pipe entre deux processus qui n’ont pas de lien entre 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réer un pipe nommé, on utilise un la commande mknod ou mkfif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Correspond au mode d’ouverture dew</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respond a 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 de mémoire partagé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sémaph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a utiliser le module IPC:SysV de CPAN, on aurait pu utiliser les commande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viger ds des fichiers scruter de grande quantité de 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 Proc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éré par un mécanisme de sign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onction open de perl ouvre un pipe au lieu d’un fichier quand on rajoute un symbole de pipe avant ou après le second argument de open. Le reste est transformé en commande, qui est interprétée comme un processus(ou un ensemble de processus) pour transférer un flux de données vers l’extérieur ou l’intéri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56F28-FE8E-48D3-8398-6F4F91DBB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B827-5D25-4E77-A5AF-FCFA7E34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68A9A-60B0-4854-A4E2-25D2E25B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0A2BD-0174-40F7-AE64-0D141F36B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6B23-FABD-409D-8098-9D2E4E0A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6BFA0-EFEB-4E3E-8CAD-D52EE076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C485E-24F2-4AC9-A91D-EF3CBDA2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74CD-BB8C-4F38-90B0-EFB6F5BBD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C21C-1161-447A-9E42-EB1C3D97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FA68-6CFF-4AFB-B495-89B03ED9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7EFC-BDCE-4FAD-A394-F643486B2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B0D0-445B-46FA-8DAB-79B353CDC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CF6D-5773-45CC-891E-DD6F4A2C4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 sous PER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447920" y="36576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implémenter des mécanismes de communication inter-processus</a:t>
            </a:r>
            <a:endParaRPr b="0" lang="en-US" sz="2400" spc="-1" strike="noStrike">
              <a:solidFill>
                <a:srgbClr val="000000"/>
              </a:solidFill>
              <a:latin typeface="Times New Roman"/>
            </a:endParaRPr>
          </a:p>
        </p:txBody>
      </p:sp>
      <p:pic>
        <p:nvPicPr>
          <p:cNvPr id="51" name="logo2000" descr=""/>
          <p:cNvPicPr/>
          <p:nvPr/>
        </p:nvPicPr>
        <p:blipFill>
          <a:blip r:embed="rId1"/>
          <a:stretch/>
        </p:blipFill>
        <p:spPr>
          <a:xfrm>
            <a:off x="7848720" y="304920"/>
            <a:ext cx="952560" cy="952560"/>
          </a:xfrm>
          <a:prstGeom prst="rect">
            <a:avLst/>
          </a:prstGeom>
          <a:ln w="0">
            <a:noFill/>
          </a:ln>
        </p:spPr>
      </p:pic>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pipe non-nommé</a:t>
            </a:r>
            <a:endParaRPr b="0" lang="en-US" sz="4400" spc="-1" strike="noStrike">
              <a:solidFill>
                <a:srgbClr val="000000"/>
              </a:solidFill>
              <a:latin typeface="Times New Roman"/>
            </a:endParaRPr>
          </a:p>
        </p:txBody>
      </p:sp>
      <p:sp>
        <p:nvSpPr>
          <p:cNvPr id="69" name=""/>
          <p:cNvSpPr/>
          <p:nvPr/>
        </p:nvSpPr>
        <p:spPr>
          <a:xfrm>
            <a:off x="4419720" y="3429000"/>
            <a:ext cx="1295280" cy="457200"/>
          </a:xfrm>
          <a:prstGeom prst="borderCallout1">
            <a:avLst>
              <a:gd name="adj1" fmla="val 18750"/>
              <a:gd name="adj2" fmla="val -8333"/>
              <a:gd name="adj3" fmla="val -41666"/>
              <a:gd name="adj4" fmla="val -61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O</a:t>
            </a:r>
            <a:endParaRPr b="0" lang="en-US" sz="2400" spc="-1" strike="noStrike">
              <a:solidFill>
                <a:srgbClr val="000000"/>
              </a:solidFill>
              <a:latin typeface="Times New Roman"/>
            </a:endParaRPr>
          </a:p>
        </p:txBody>
      </p:sp>
      <p:sp>
        <p:nvSpPr>
          <p:cNvPr id="70" name=""/>
          <p:cNvSpPr/>
          <p:nvPr/>
        </p:nvSpPr>
        <p:spPr>
          <a:xfrm>
            <a:off x="609480" y="1752480"/>
            <a:ext cx="807732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STATUS, "netstat -an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r die "fork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ATUS&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next unless /(tcp|udp)/;</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STATUS or die "mauvais spool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 programme communique avec lui-même!</a:t>
            </a:r>
            <a:endParaRPr b="0" lang="en-US" sz="4400" spc="-1" strike="noStrike">
              <a:solidFill>
                <a:srgbClr val="000000"/>
              </a:solidFill>
              <a:latin typeface="Times New Roman"/>
            </a:endParaRPr>
          </a:p>
        </p:txBody>
      </p:sp>
      <p:sp>
        <p:nvSpPr>
          <p:cNvPr id="72"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 KID_TO_WRITE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pid){</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pe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KID_TO_WRITE "des_donne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KID_TO_WRITE) or warn "fils sorti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lse{</a:t>
            </a:r>
            <a:r>
              <a:rPr b="0" lang="en-US" sz="2400" spc="-1" strike="noStrike">
                <a:solidFill>
                  <a:srgbClr val="000000"/>
                </a:solidFill>
                <a:latin typeface="Arial Narrow"/>
              </a:rPr>
              <a:t>	</a:t>
            </a:r>
            <a:r>
              <a:rPr b="0" lang="en-US" sz="2400" spc="-1" strike="noStrike">
                <a:solidFill>
                  <a:srgbClr val="000000"/>
                </a:solidFill>
                <a:latin typeface="Arial Narrow"/>
              </a:rPr>
              <a:t>#fils</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le, "&gt;file") or die "open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DIN&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 file; #STDIN du fils = KID_TO_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mmunication bidirectionnel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communication bidirectionnelle</a:t>
            </a:r>
            <a:endParaRPr b="0" lang="en-US" sz="4400" spc="-1" strike="noStrike">
              <a:solidFill>
                <a:srgbClr val="000000"/>
              </a:solidFill>
              <a:latin typeface="Times New Roman"/>
            </a:endParaRPr>
          </a:p>
        </p:txBody>
      </p:sp>
      <p:sp>
        <p:nvSpPr>
          <p:cNvPr id="7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FileHandl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Open2;</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2(\*Lecteur, \*Auteur, "cat -u -n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Auteur "truc\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t = &lt;Lecteur&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go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80"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O = '.signatu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 (-p $FIFO)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mknod',$FIFO, 'p') &amp;&amp; die "mknod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 ligne suivante bloque jusqu'à ce qu'il y ait un lecteur</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FO,"&gt;$FIFO") or die "write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FIFO "Marcelo (Marcelo@host.fr)\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FIFO;</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eep 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tilisation des IPC’s SystemV avec PERL </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segment de mémoire partagée</a:t>
            </a:r>
            <a:endParaRPr b="0" lang="en-US" sz="4400" spc="-1" strike="noStrike">
              <a:solidFill>
                <a:srgbClr val="000000"/>
              </a:solidFill>
              <a:latin typeface="Times New Roman"/>
            </a:endParaRPr>
          </a:p>
        </p:txBody>
      </p:sp>
      <p:sp>
        <p:nvSpPr>
          <p:cNvPr id="84"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PRIVATE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RMID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ille = 200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ef = shmget ($IPC_PRIVATE, $taille,0777);</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unless defined $clef;</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ssage = "Message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write($clef, $message, 0,60) or die "sh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read($clef,$buff,0,60) or die "shmread: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buf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suppression de $cle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ctl($clef, $IPC_RMID,0) or die "shmctl: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a:t>
            </a:r>
            <a:endParaRPr b="0" lang="en-US" sz="4400" spc="-1" strike="noStrike">
              <a:solidFill>
                <a:srgbClr val="000000"/>
              </a:solidFill>
              <a:latin typeface="Times New Roman"/>
            </a:endParaRPr>
          </a:p>
        </p:txBody>
      </p:sp>
      <p:sp>
        <p:nvSpPr>
          <p:cNvPr id="8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setall(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ndre la 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re qu'il passe a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0,IPC_NOWAI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7"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IPC_PRIVATE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1,IPC_NOWAI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remov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 processus précédent s’arrête</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suit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LAN</a:t>
            </a:r>
            <a:endParaRPr b="0" lang="en-US" sz="4400" spc="-1" strike="noStrike">
              <a:solidFill>
                <a:srgbClr val="000000"/>
              </a:solidFill>
              <a:latin typeface="Times New Roman"/>
            </a:endParaRPr>
          </a:p>
        </p:txBody>
      </p:sp>
      <p:sp>
        <p:nvSpPr>
          <p:cNvPr id="5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ésentation succincte de PER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simplification de programma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ce que l’on peut faire avec PERL</a:t>
            </a:r>
            <a:endParaRPr b="0" lang="en-US" sz="3200" spc="-1" strike="noStrike">
              <a:solidFill>
                <a:srgbClr val="000000"/>
              </a:solidFill>
              <a:latin typeface="Times New Roman"/>
            </a:endParaRPr>
          </a:p>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IPC’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signau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pip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IPC’s system V</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uissa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IPC’s est simplifié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s de descripteur à gérer</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à essayer absol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L</a:t>
            </a:r>
            <a:br>
              <a:rPr sz="4400"/>
            </a:br>
            <a:r>
              <a:rPr b="0" lang="en-US" sz="4400" spc="-1" strike="noStrike" u="sng">
                <a:solidFill>
                  <a:srgbClr val="000000"/>
                </a:solidFill>
                <a:uFillTx/>
                <a:latin typeface="Times New Roman"/>
              </a:rPr>
              <a:t>Simplification de programmation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types est simplifié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 lancer des programmes exter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nvoyer des données vers un autre program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ortable (UNIX,OS/2,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en C de façon porta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es shell de façon por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e que l’on peut faire avec PER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 systèmes de fichi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 process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 de BD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de client-serve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sécuris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s informations basées sur l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orientée objet et fonctionnel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ter Process Commun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s signaux</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gestion des signaux est représentée par une table de hachage %S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ant des références sur des gestionna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signal =&gt; gestionnaire correspondan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éclaration d’un gestionnaire</a:t>
            </a:r>
            <a:endParaRPr b="0" lang="en-US" sz="4400" spc="-1" strike="noStrike">
              <a:solidFill>
                <a:srgbClr val="000000"/>
              </a:solidFill>
              <a:latin typeface="Times New Roman"/>
            </a:endParaRPr>
          </a:p>
        </p:txBody>
      </p:sp>
      <p:sp>
        <p:nvSpPr>
          <p:cNvPr id="63" name=""/>
          <p:cNvSpPr/>
          <p:nvPr/>
        </p:nvSpPr>
        <p:spPr>
          <a:xfrm>
            <a:off x="533520" y="1752480"/>
            <a:ext cx="807696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éclaration d’un gestionnai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attrape{ #déclare un sous-programm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 $nomsig = shif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Quelqu'un m'a envoyé un SIG $nomsig!";</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INT} = \&amp;attrap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kill 2 =&gt; $kid_pid){warn "il s'est passe qq ch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l E/S qui peut transférer un flux d’octets d’un processus vers un aut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n-nommé (utilisation de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sation d’un pipe pour que le programme communique avec lui-mê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bidirectionne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mm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 non-nommé</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n</a:t>
            </a:r>
            <a:r>
              <a:rPr b="0" lang="en-US" sz="3200" spc="-1" strike="noStrike">
                <a:solidFill>
                  <a:srgbClr val="000000"/>
                </a:solidFill>
                <a:latin typeface="Times New Roman"/>
              </a:rPr>
              <a:t> de perl ouvre un pipe au lieu d’un fichier quand on rajoute un symbole de pipe avant ou après le second arg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6:48:42Z</dcterms:created>
  <dc:creator>utilisateur</dc:creator>
  <dc:description/>
  <dc:language>en-US</dc:language>
  <cp:lastModifiedBy>Laurençot Stéphane</cp:lastModifiedBy>
  <dcterms:modified xsi:type="dcterms:W3CDTF">2001-11-22T21:30:56Z</dcterms:modified>
  <cp:revision>13</cp:revision>
  <dc:subject/>
  <dc:title>IPC sous PERL</dc:title>
</cp:coreProperties>
</file>