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D7AA-A017-4AE0-9CFB-9F3DA6768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0E93-84FC-4D5E-A12B-C3F7978B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C2A0-1916-458F-8256-8094BB527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C882-DC2B-43E7-AF0B-B9EF49F29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4308-7D12-4D2E-847D-360CBDB9E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F7A2-987F-48E0-868F-EF599AA72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99E7-500A-4569-B137-27A50C954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89FA-4E51-4684-9335-EA280307A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E33F-BA9C-4F8A-82C6-D79479B41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B79F-78D5-4D9F-9122-B83B3E60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713A-5F07-4515-BE8F-B6035857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A0B9-62E0-48B5-A2C5-68D0E371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C3199-D218-48CE-8B43-B919B3A03D8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a programmation générique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avec la ST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716000" y="6308640"/>
            <a:ext cx="419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IUMLV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- Informatique et Réseaux 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9920" y="6313320"/>
            <a:ext cx="19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enoît RO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TL – petits exemples (2)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t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32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#include &lt;iostream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#include &lt;lis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#include&lt;algorithm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ist&lt;char&gt; initC(char*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ist&lt;char&gt; majax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while (*c != ‘\0’= majax.push_back(*c++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eturn majax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void main(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ist&lt;char&gt; gerard = initC("le plus grand et le plus fort des magiciens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gerard.sor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gerard.uniqu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or (List&lt;char&gt;::iterator i = gerard.begin() ; i != gerard.end() ; i++) cout &lt;&lt; *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TL – Autre notion : l’adaptateur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daptateur de contai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our résumer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daptateur &lt; Conteneur &lt; Truc &gt; 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tack ( la pile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eut être implémentée avec Vector, List, De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incipe LIFO : push et pop à la même extrém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Queue ( la file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eut être implémentée avec List, De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incipe FI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iority_queue ( la file par priorité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épend d’une fonction de comparai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iority_queue&lt; Conteneur &lt; Truc &gt; , fcomp &lt; Truc &gt; 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TL – Autre notion : l’adaptateur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95280" y="3499920"/>
            <a:ext cx="8229600" cy="2449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void mai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nt arr[] = {1,4,9,16,25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ist&lt;int&gt; liste(arr, arr+5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ist&lt;int&gt;::reverse_iterator revi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evit = liste.rbegin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while (revit != liste.rend()) cout &lt;&lt; *revit++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1700280"/>
            <a:ext cx="772488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daptateurs d’itérat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’itérateur inve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TL – Autre notion : l’adaptateur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5280" y="3499920"/>
            <a:ext cx="8229600" cy="2808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void mai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nt t1[] = { 1, 3, 5, 7, 9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eque&lt;int&gt; dq1(t1,t1+5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nt t2[] = { 2, 4, 6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eque&lt;int&gt; dq2(t2,t2+3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py(dq1.begin(), dq1.end(), back_inserter(dq2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or (int i=0 ; i&lt;dq2.size() ; i++) cout &lt;&lt; dq2[i] &lt;&lt; ‘ ‘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9640" y="1700280"/>
            <a:ext cx="7724880" cy="14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’itérateur d’inser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TL – pour finir : les fonct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bstraction de la notion de fon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oncteur = Objet dont la classe définit l’opérateur () , appelé opérateur de fo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ermettent d’appliquer des fonctions sur les objets manipul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3068640"/>
            <a:ext cx="8229600" cy="360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#include &lt;iostream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#include &lt;functiona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emplate &lt;class T, class F&gt; T applique(T i, T j, F foncteu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eturn foncteur(i, j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void main(v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lus&lt;int&gt; foncteur_plu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ut &lt;&lt; applique(2, 3, foncteur_plus) &lt;&lt; end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a suite sur le site Web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arlons voir de Ookc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 : les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concept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de généricité ne s’appliquent pas seulement au c++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2 : on a le droit de les appliqu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3 : le joli schéma de Stepanov peut être généralisé : on sait à quoi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ressembl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l’objet avec lequel on veut discuter et ce qu’il doit faire, mais on ne sait pas comment il fait ce qu’il fait ( et on plus ce n’est pas notre problème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 gros, si l’objet cible change, on lui demande simplement de garder la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même apparenc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. Comme ça, on n’a pas besoin de recommencer tout notr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4 : c’est très chiant au début, mais ça facilite la vie aprè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e dont on va parl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 concepts de généricité : re-encore à nouveau un autre rappel, mais ça finira par rentr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Standard Template 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vec les concepts, des exemples, et tout ce qui va b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fin:les trucs qu’il faut comprendre ( ou en tout cas retenir ) pour le proj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rogrammation générique: les moti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principale: la flem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réutilisation du code ( cf. premier point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facilité d’écri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lisibilité du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he schéma, par Stepanov et L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4794120"/>
            <a:ext cx="8229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s algorithmes sont indépendants du type de données stocké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l s’agit ainsi de connecter des algorithmes à des structures de données, par le biais de connecteu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547640" y="2133720"/>
            <a:ext cx="6407280" cy="2016000"/>
            <a:chOff x="1547640" y="2133720"/>
            <a:chExt cx="6407280" cy="2016000"/>
          </a:xfrm>
        </p:grpSpPr>
        <p:sp>
          <p:nvSpPr>
            <p:cNvPr id="51" name=""/>
            <p:cNvSpPr/>
            <p:nvPr/>
          </p:nvSpPr>
          <p:spPr>
            <a:xfrm>
              <a:off x="1547640" y="2133720"/>
              <a:ext cx="1871640" cy="20160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Algorithm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83280" y="2133720"/>
              <a:ext cx="1871640" cy="20160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Contain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3419280" y="3141360"/>
              <a:ext cx="2664000" cy="0"/>
            </a:xfrm>
            <a:prstGeom prst="line">
              <a:avLst/>
            </a:prstGeom>
            <a:ln w="11448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141800" y="2709720"/>
              <a:ext cx="114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Itérateu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a ST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pplication directe des concepts développés par Stepan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l s’agit d’une bibliothèque d’algorithmes généraux et de structures de donné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contai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de sé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associati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algorith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sort, find, search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copy, swap, for_each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itérat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daptés aux types de contai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TL - Les containers de sé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V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extensible et relocalis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accès aléatoire par index en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O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sertions et retraits à la fin en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O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insertions et retraits lents au mili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ist ( liste circulaire doublement chaînée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insertions et retraits n’importe où en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O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accès au début et à la fin en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O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accès lent aux autres élé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que ( Double Ended Queue = tampon circulaire dynamique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exactement pareil que Vector pour la complex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pas d’insertion au mili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bon compromis vitesse d’accès / souplesse du rempli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TL - Les containers associati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et ( liste triée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Chaque élément doit être unique ( pas de doublons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accès aléatoire par clé ( l’objet lui-même est la clé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ultis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Un ‘set’ qui permet les doubl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p ( association clé / élément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une clé pour un élément ( pas de doublons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accès aléatoire par clé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uli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Un ‘map’ ou les éléments peuvent être multiples pour une cl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TL – Les itérat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'itérateur est une généralisation des pointeurs.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l permet de parcourir en séquence les éléments d'un contene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iérarchie des itérateu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59280" y="2924280"/>
            <a:ext cx="1800360" cy="576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cri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19280" y="2924280"/>
            <a:ext cx="1800360" cy="576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3860640"/>
            <a:ext cx="1800000" cy="576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r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4797360"/>
            <a:ext cx="1800000" cy="576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idirectio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76720" y="5734080"/>
            <a:ext cx="1800000" cy="576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ccè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léat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140360" y="5373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4140360" y="44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2484000" y="414972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484360" y="3500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76720" y="41497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5724360" y="3500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48360" y="587700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+n, It-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48000" y="4941720"/>
            <a:ext cx="9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++, It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48720" y="4149720"/>
            <a:ext cx="5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TL – petits exemples (1)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a cop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789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void main(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ist&lt;int&gt; l(4,0);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// l vaut 0::0::0::0::[]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vector&lt;int&gt; v(10,1);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// v vaut [1,1,1,1,1,1,1,1,1,1,1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vector&lt;int&gt;::iterator i = copy(l.begin(),l.end(),v.begin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py(v.begin(),i, ostream_iterator&lt;int&gt;(cout," ")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py(i,v.end(), ostream_iterator&lt;int&gt;(cout," ")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7T14:06:20Z</dcterms:created>
  <dc:creator>POPI</dc:creator>
  <dc:description/>
  <dc:language>en-US</dc:language>
  <cp:lastModifiedBy>POPI</cp:lastModifiedBy>
  <dcterms:modified xsi:type="dcterms:W3CDTF">2002-02-07T15:13:13Z</dcterms:modified>
  <cp:revision>26</cp:revision>
  <dc:subject/>
  <dc:title>La programmation génériqu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