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78F-C374-4841-8C67-66816802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92E-464A-4A00-8114-C4D579DE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D1A-6558-41C7-AFDC-50358419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5EF-7156-4624-AE10-55AA034C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2914-875C-42F8-BDFE-139BB46C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6B80-2CCF-4EE8-995D-E0A34E12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69AA-7FE8-4199-8E3D-33E4D377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9689-EFF6-4038-81FF-8FCD15C2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3712-07F4-4C2D-B831-76D44AEF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0BBC-D1C6-4BC6-8DB2-FDCCE704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A45A-98B3-4AF4-BA97-BDDD9DAA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036-6792-44F9-B979-3B16543C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063A-E4C9-4A69-965C-DED28597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2C64-F4BF-4270-92E5-165809AB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A147-C185-4153-9858-41BC30AA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586C-9829-49FC-909B-94641D4E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3AA5-58AE-44AA-BADF-6AB3EB50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FBD-32EB-4312-8013-803FD241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0F3-93C1-4D55-BD9D-6C293FB6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438-799A-4023-9E96-B3976975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C69-A736-461B-9800-B89603AB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32E-24D0-41E4-A024-D1C46180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9AA-14FF-4AB3-A777-5EA2CD6E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CA0-02E0-43F2-8EF9-D1E2E631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9B8A-27D5-45AF-8ABD-613DCE084FEB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29DC-20C4-49ED-B43D-0CF026A96FF3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87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Impact"/>
              </a:rPr>
              <a:t>L’AMDEC</a:t>
            </a:r>
            <a:endParaRPr b="0" lang="en-US" sz="4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58920" y="1699920"/>
            <a:ext cx="5715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Bookman Old Style"/>
              </a:rPr>
              <a:t>Nicolas DAUJEAR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Bookman Old Style"/>
              </a:rPr>
              <a:t>IR3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4038480"/>
            <a:ext cx="2874960" cy="2224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29200" y="3429000"/>
            <a:ext cx="2819520" cy="1981080"/>
          </a:xfrm>
          <a:prstGeom prst="cloudCallout">
            <a:avLst>
              <a:gd name="adj1" fmla="val -96620"/>
              <a:gd name="adj2" fmla="val -111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395928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CURITE, ANALYSE DES RISQUES, PLANS DE PREVENTION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705720" y="5327640"/>
            <a:ext cx="20858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L ’AMDEC </a:t>
            </a:r>
            <a:br>
              <a:rPr sz="4400"/>
            </a:b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 Une démarche </a:t>
            </a:r>
            <a:r>
              <a:rPr b="0" lang="fr-FR" sz="4400" spc="-1" strike="noStrike">
                <a:solidFill>
                  <a:srgbClr val="ffff00"/>
                </a:solidFill>
                <a:latin typeface="Impact"/>
              </a:rPr>
              <a:t>Critiqu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6920" y="2205000"/>
            <a:ext cx="541044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Identification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systématique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des  Risques de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dysfonctionnement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des équipements (</a:t>
            </a:r>
            <a:r>
              <a:rPr b="0" lang="fr-FR" sz="2200" spc="-1" strike="noStrike">
                <a:solidFill>
                  <a:srgbClr val="ff0000"/>
                </a:solidFill>
                <a:latin typeface="Impact"/>
              </a:rPr>
              <a:t>MODES DE DEFAILLANCES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Recherche des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origines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et des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conséquences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de ces dysfonctionnements ( </a:t>
            </a:r>
            <a:r>
              <a:rPr b="0" lang="fr-FR" sz="2200" spc="-1" strike="noStrike">
                <a:solidFill>
                  <a:srgbClr val="ff0000"/>
                </a:solidFill>
                <a:latin typeface="Impact"/>
              </a:rPr>
              <a:t>CAUSES / EFFETS 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Mise en évidence des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points critiques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Proposition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d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 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’ actions correctives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adaptées: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80000"/>
              </a:lnSpc>
              <a:spcBef>
                <a:spcPts val="476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Impact"/>
              </a:rPr>
              <a:t>remise en cause  des consignes d ’exploitation , de nettoyage et de Maintenance</a:t>
            </a:r>
            <a:endParaRPr b="0" lang="en-US" sz="19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80000"/>
              </a:lnSpc>
              <a:spcBef>
                <a:spcPts val="476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Impact"/>
              </a:rPr>
              <a:t>remise en cause de la Conception</a:t>
            </a:r>
            <a:endParaRPr b="0" lang="en-US" sz="19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248520" y="3406680"/>
            <a:ext cx="304776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Impact"/>
              </a:rPr>
              <a:t>L ’AMDEC</a:t>
            </a: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 </a:t>
            </a:r>
            <a:br>
              <a:rPr sz="4400"/>
            </a:b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fr-FR" sz="2800" spc="-1" strike="noStrike">
                <a:solidFill>
                  <a:srgbClr val="ccffff"/>
                </a:solidFill>
                <a:latin typeface="Impact"/>
              </a:rPr>
              <a:t>Une démarche à la fois 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qualitative </a:t>
            </a:r>
            <a:r>
              <a:rPr b="0" lang="fr-FR" sz="2800" spc="-1" strike="noStrike">
                <a:solidFill>
                  <a:srgbClr val="99ffcc"/>
                </a:solidFill>
                <a:latin typeface="Impact"/>
              </a:rPr>
              <a:t>et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 quantitative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705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QUALITATIV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Découpage Fonctionnel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Analyse des Modes de Défaillance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Analyse des Cause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Analyse des Effet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QUANTITATIV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Cotation de paramètres (Fréquence d ’apparition , Gravité ….)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Calcul de la Criticité à partir de ces paramètre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Mesure des résultats 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2057400"/>
            <a:ext cx="3276360" cy="1752480"/>
          </a:xfrm>
          <a:prstGeom prst="wedgeEllipseCallout">
            <a:avLst>
              <a:gd name="adj1" fmla="val -53342"/>
              <a:gd name="adj2" fmla="val 8079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EMARCH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ELIORA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QUI PERME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UNE EVOLUTION POSITIV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ES SITU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LES PLUS CRITIQUES…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038480"/>
            <a:ext cx="2895480" cy="1447920"/>
          </a:xfrm>
          <a:prstGeom prst="wedgeEllipseCallout">
            <a:avLst>
              <a:gd name="adj1" fmla="val -115185"/>
              <a:gd name="adj2" fmla="val 47259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.SI ELLE EST PRATIQUE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SUR L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EQUIPEMENTS L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PLUS PENALISA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962520"/>
            <a:ext cx="4191120" cy="1066680"/>
          </a:xfrm>
          <a:prstGeom prst="cloudCallout">
            <a:avLst>
              <a:gd name="adj1" fmla="val 44999"/>
              <a:gd name="adj2" fmla="val 44643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...…D ’OU UNE MOTIVATION DU PERSONN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TECHNIQUE ET D ’EXPLOI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Dans le cas d’un système informatique il s’agit d’impliquer tous les acteurs…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219320" y="692280"/>
            <a:ext cx="7772400" cy="86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Impact"/>
              </a:rPr>
              <a:t>Une méthode de manage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Impact"/>
              </a:rPr>
              <a:t>L ’AMDEC </a:t>
            </a:r>
            <a:br>
              <a:rPr sz="4400"/>
            </a:b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 Une démarche </a:t>
            </a:r>
            <a:r>
              <a:rPr b="0" lang="fr-FR" sz="4400" spc="-1" strike="noStrike">
                <a:solidFill>
                  <a:srgbClr val="ffff00"/>
                </a:solidFill>
                <a:latin typeface="Impact"/>
              </a:rPr>
              <a:t>Participative</a:t>
            </a: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…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Mise en commun des expériences de chacu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438280"/>
            <a:ext cx="4038840" cy="68580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ngénieurs Systè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4572000" cy="76212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ngénieurs process et proj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4038480"/>
            <a:ext cx="4343400" cy="60984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chnici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724280"/>
            <a:ext cx="3962160" cy="68580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Utilisateurs finau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5362560"/>
            <a:ext cx="800100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Echanges Techniques entre les différentes équi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6324480"/>
            <a:ext cx="7772400" cy="45720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Groupe de Travail PLURIDISCIPLIN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243864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PRINCIPE D’ANALYSE : L ’AMDEC</a:t>
            </a:r>
            <a:br>
              <a:rPr sz="4000"/>
            </a:b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UNE DEMARCHE EN 4 ETAPE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ETAPE 1 : INITIALISATION DE L ’ETUDE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Quelle Système étudier 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Quels Objectifs atteindre 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Constituer le Groupe de Travai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Etablir le Planning des réun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Définir les supports de travail (Grilles , tableaux de saisie ..)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ETAPE 2 : DECOMPOSITION FONCTIONNELLE DE LA MACHIN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Découpage arborescent  du systèm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Inventaire des Fonctions de servi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Inventaire des fonctions élémentair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L ’AMDEC</a:t>
            </a:r>
            <a:br>
              <a:rPr sz="4000"/>
            </a:b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UNE DEMARCHE EN 4 ETAPE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0" lang="fr-FR" sz="32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ETAPE 3: ANALYSE AMDEC DU SYSTEME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ff"/>
                </a:solidFill>
                <a:uFillTx/>
                <a:latin typeface="Impact"/>
              </a:rPr>
              <a:t>Analyse des mécanismes de défaillances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 (Modes de défaillance , causes , effets , détections éventuelles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ff"/>
                </a:solidFill>
                <a:uFillTx/>
                <a:latin typeface="Impact"/>
              </a:rPr>
              <a:t>Evaluation de la   CRITICITE  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(Estimation des Temps d ’intervention , des fréquences ‘apparition des défaillances, évaluation des critères de cotation , calcul de la </a:t>
            </a:r>
            <a:r>
              <a:rPr b="0" lang="fr-FR" sz="2000" spc="-1" strike="noStrike">
                <a:solidFill>
                  <a:srgbClr val="ffcc00"/>
                </a:solidFill>
                <a:latin typeface="Impact"/>
              </a:rPr>
              <a:t>criticité</a:t>
            </a:r>
            <a:r>
              <a:rPr b="0" lang="fr-FR" sz="2000" spc="-1" strike="noStrike">
                <a:solidFill>
                  <a:srgbClr val="00cc00"/>
                </a:solidFill>
                <a:latin typeface="Impact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ff"/>
                </a:solidFill>
                <a:uFillTx/>
                <a:latin typeface="Impact"/>
              </a:rPr>
              <a:t>Proposition  d ’ACTIONS CORRECTIVES  (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 réduction des effets par  de la maintenance préventive  , détection préventive , maintenance améliorative , calcul de  la nouvelle </a:t>
            </a:r>
            <a:r>
              <a:rPr b="0" lang="fr-FR" sz="2000" spc="-1" strike="noStrike">
                <a:solidFill>
                  <a:srgbClr val="ffcc00"/>
                </a:solidFill>
                <a:latin typeface="Impact"/>
              </a:rPr>
              <a:t>criticité</a:t>
            </a:r>
            <a:r>
              <a:rPr b="0" lang="fr-FR" sz="2000" spc="-1" strike="noStrike">
                <a:solidFill>
                  <a:srgbClr val="00cc00"/>
                </a:solidFill>
                <a:latin typeface="Impact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après action 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0" lang="fr-FR" sz="3200" spc="-1" strike="noStrike">
                <a:solidFill>
                  <a:srgbClr val="99ffcc"/>
                </a:solidFill>
                <a:latin typeface="Impact"/>
              </a:rPr>
              <a:t> 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ETAPE 4 : SYNTHESE DE L ’ETUD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ff"/>
                </a:solidFill>
                <a:uFillTx/>
                <a:latin typeface="Impact"/>
              </a:rPr>
              <a:t>Hiérarchisation des défaillances</a:t>
            </a: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(liste des pannes résumées , défaillances de causes communes , classement par catégories , symptômes observables….)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Liste des points critiques et  plan de maintenance éventuel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4572000"/>
            <a:ext cx="79056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8380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1932"/>
                </a:solidFill>
                <a:latin typeface="Impact"/>
              </a:rPr>
              <a:t>LES CRITÈRES ANALYSÉS DANS L’AMDEC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981080"/>
            <a:ext cx="2895480" cy="53352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MODE DE DEFAIL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2590920"/>
            <a:ext cx="2209680" cy="609480"/>
          </a:xfrm>
          <a:prstGeom prst="wedgeRoundRectCallout">
            <a:avLst>
              <a:gd name="adj1" fmla="val -79310"/>
              <a:gd name="adj2" fmla="val 1300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QUE PEUT-IL ARRIVE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3276720"/>
            <a:ext cx="221004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EFF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3809880"/>
            <a:ext cx="2133360" cy="609840"/>
          </a:xfrm>
          <a:prstGeom prst="wedgeRoundRectCallout">
            <a:avLst>
              <a:gd name="adj1" fmla="val -80356"/>
              <a:gd name="adj2" fmla="val 1300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QUELLES EN SO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LES CONSEQUENC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4419720"/>
            <a:ext cx="220968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CAU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876920"/>
            <a:ext cx="2133720" cy="609480"/>
          </a:xfrm>
          <a:prstGeom prst="wedgeRoundRectCallout">
            <a:avLst>
              <a:gd name="adj1" fmla="val -80356"/>
              <a:gd name="adj2" fmla="val 1300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URQUOI CET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EFAILL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EST-ELLE ARRIVE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220968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FREQUENCE = 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6019920"/>
            <a:ext cx="3048120" cy="761760"/>
          </a:xfrm>
          <a:prstGeom prst="wedgeRoundRectCallout">
            <a:avLst>
              <a:gd name="adj1" fmla="val -61250"/>
              <a:gd name="adj2" fmla="val -8958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ELLE EST LA FREQUENCE D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EFAILLANC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S ’appuyer sur 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écu en AMDEC OPERATIONNELL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1981080"/>
            <a:ext cx="220968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GRAVITE = 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2514600"/>
            <a:ext cx="2438280" cy="533520"/>
          </a:xfrm>
          <a:prstGeom prst="wedgeRectCallout">
            <a:avLst>
              <a:gd name="adj1" fmla="val -66407"/>
              <a:gd name="adj2" fmla="val 4791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QUALITE EST-EL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ONNE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124080"/>
            <a:ext cx="2666880" cy="457200"/>
          </a:xfrm>
          <a:prstGeom prst="wedgeRectCallout">
            <a:avLst>
              <a:gd name="adj1" fmla="val -62143"/>
              <a:gd name="adj2" fmla="val 3923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POLLUTION EST-EL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CCEPTABLE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3657600"/>
            <a:ext cx="2361960" cy="533520"/>
          </a:xfrm>
          <a:prstGeom prst="wedgeRectCallout">
            <a:avLst>
              <a:gd name="adj1" fmla="val -82259"/>
              <a:gd name="adj2" fmla="val 148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SECURITE EST-EL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ARANTIE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267080"/>
            <a:ext cx="2666880" cy="381240"/>
          </a:xfrm>
          <a:prstGeom prst="wedgeRectCallout">
            <a:avLst>
              <a:gd name="adj1" fmla="val -65000"/>
              <a:gd name="adj2" fmla="val -291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ELLE SERA LA DU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E L ’INTERVENTION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53080" y="4724280"/>
            <a:ext cx="2438640" cy="685800"/>
          </a:xfrm>
          <a:prstGeom prst="wedgeRectCallout">
            <a:avLst>
              <a:gd name="adj1" fmla="val -73439"/>
              <a:gd name="adj2" fmla="val -34953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ELS SERONT LES COÛ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IRECTS ET INDIREC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5486400"/>
            <a:ext cx="220968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DETECTION =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6019920"/>
            <a:ext cx="2666880" cy="685800"/>
          </a:xfrm>
          <a:prstGeom prst="wedgeRectCallout">
            <a:avLst>
              <a:gd name="adj1" fmla="val -70712"/>
              <a:gd name="adj2" fmla="val -57175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ELLE EST LA PROTECTION S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ET EQUIPEM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I PERMET DE DETECTER L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EFAILLANC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9528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6172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486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1143000"/>
            <a:ext cx="2438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riticité C = FxGx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1143000"/>
            <a:ext cx="3962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riticité &gt; Seuil : Action Correc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METHODE DE CALCUL DE LA  </a:t>
            </a:r>
            <a:r>
              <a:rPr b="0" lang="fr-FR" sz="4400" spc="-1" strike="noStrike">
                <a:solidFill>
                  <a:srgbClr val="ff0000"/>
                </a:solidFill>
                <a:latin typeface="Impact"/>
              </a:rPr>
              <a:t>CRITICIT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057400"/>
            <a:ext cx="4495680" cy="1143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N CALCULE LA CRITICITE ( NOTEE C OU IPR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UR CHAQUE COMBINAIS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« MODE DE DEFAILLANCE-CAUSE-EFFETS 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N EFFECTUE POUR CELA  LE  PRODU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FxG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32004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716000">
            <a:off x="1739520" y="2666880"/>
            <a:ext cx="852480" cy="990720"/>
          </a:xfrm>
          <a:custGeom>
            <a:avLst/>
            <a:gdLst>
              <a:gd name="textAreaLeft" fmla="*/ 284040 w 852480"/>
              <a:gd name="textAreaRight" fmla="*/ 711720 w 852480"/>
              <a:gd name="textAreaTop" fmla="*/ 581040 h 990720"/>
              <a:gd name="textAreaBottom" fmla="*/ 8269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6238"/>
                </a:moveTo>
                <a:lnTo>
                  <a:pt x="12667" y="16238"/>
                </a:lnTo>
                <a:lnTo>
                  <a:pt x="12667" y="7194"/>
                </a:lnTo>
                <a:lnTo>
                  <a:pt x="9096" y="7194"/>
                </a:lnTo>
                <a:lnTo>
                  <a:pt x="15348" y="0"/>
                </a:lnTo>
                <a:lnTo>
                  <a:pt x="21600" y="7194"/>
                </a:lnTo>
                <a:lnTo>
                  <a:pt x="18029" y="7194"/>
                </a:lnTo>
                <a:lnTo>
                  <a:pt x="180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281200">
            <a:off x="7112520" y="271656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3657600"/>
            <a:ext cx="2438640" cy="990720"/>
          </a:xfrm>
          <a:prstGeom prst="flowChartDisplay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1&lt;C&lt;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Si F et D sont cotés de 1 à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vec G cotée à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3733920"/>
            <a:ext cx="1981080" cy="838080"/>
          </a:xfrm>
          <a:prstGeom prst="flowChartDisplay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1&lt;C&lt;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Si F ,G, D sont tous coté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de 1 à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(cas le plus fréquent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3581280"/>
            <a:ext cx="2210040" cy="1067040"/>
          </a:xfrm>
          <a:prstGeom prst="flowChartDisplay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1&lt;C&lt;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Si F ,G, D sont tous coté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e 1 à 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45720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4876920"/>
            <a:ext cx="3352680" cy="914400"/>
          </a:xfrm>
          <a:prstGeom prst="flowChartInputOutpu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On se fixe 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valeur maxi pour 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En général C&lt;25% de la note max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5281200">
            <a:off x="6329880" y="5118480"/>
            <a:ext cx="430200" cy="609480"/>
          </a:xfrm>
          <a:custGeom>
            <a:avLst/>
            <a:gdLst>
              <a:gd name="textAreaLeft" fmla="*/ 0 w 430200"/>
              <a:gd name="textAreaRight" fmla="*/ 430560 w 4302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5638680"/>
            <a:ext cx="1981080" cy="91440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C&lt;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Pas d ’action corr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à envisa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Sauf si Pb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Pollution ou de Sécurit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0716000">
            <a:off x="1676520" y="5334120"/>
            <a:ext cx="1676160" cy="457200"/>
          </a:xfrm>
          <a:custGeom>
            <a:avLst/>
            <a:gdLst>
              <a:gd name="textAreaLeft" fmla="*/ 558360 w 1676160"/>
              <a:gd name="textAreaRight" fmla="*/ 1399320 w 1676160"/>
              <a:gd name="textAreaTop" fmla="*/ 311400 h 457200"/>
              <a:gd name="textAreaBottom" fmla="*/ 3816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8274"/>
                </a:moveTo>
                <a:lnTo>
                  <a:pt x="14703" y="18274"/>
                </a:lnTo>
                <a:lnTo>
                  <a:pt x="14703" y="7194"/>
                </a:lnTo>
                <a:lnTo>
                  <a:pt x="11132" y="7194"/>
                </a:lnTo>
                <a:lnTo>
                  <a:pt x="16366" y="0"/>
                </a:lnTo>
                <a:lnTo>
                  <a:pt x="21600" y="7194"/>
                </a:lnTo>
                <a:lnTo>
                  <a:pt x="18029" y="7194"/>
                </a:lnTo>
                <a:lnTo>
                  <a:pt x="180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5791320"/>
            <a:ext cx="1828800" cy="99036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C&gt;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Actions à définir av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le groupe de travai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Objectif:ramen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C&lt;12 (ou à 16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5791320"/>
            <a:ext cx="3808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095880"/>
            <a:ext cx="2590920" cy="7621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On considérera toujours un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défaillanc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comme « critique »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lorsque sa note G est maxi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Impact"/>
              </a:rPr>
              <a:t>POUR L ’ETAPE 2 </a:t>
            </a:r>
            <a:br>
              <a:rPr sz="3600"/>
            </a:br>
            <a:r>
              <a:rPr b="0" lang="fr-FR" sz="3600" spc="-1" strike="noStrike">
                <a:solidFill>
                  <a:srgbClr val="ccffff"/>
                </a:solidFill>
                <a:latin typeface="Impact"/>
              </a:rPr>
              <a:t> DECOUPAGE ARBORESCENT DE LA MACHIN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187280" y="1989000"/>
            <a:ext cx="7743600" cy="3932280"/>
            <a:chOff x="1187280" y="1989000"/>
            <a:chExt cx="7743600" cy="3932280"/>
          </a:xfrm>
        </p:grpSpPr>
        <p:cxnSp>
          <p:nvCxnSpPr>
            <p:cNvPr id="245" name="_s133168"/>
            <p:cNvCxnSpPr>
              <a:stCxn id="246" idx="0"/>
              <a:endCxn id="247" idx="2"/>
            </p:cNvCxnSpPr>
            <p:nvPr/>
          </p:nvCxnSpPr>
          <p:spPr>
            <a:xfrm flipV="1" rot="16200000">
              <a:off x="3116160" y="4925880"/>
              <a:ext cx="229320" cy="8467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8" name="_s133166"/>
            <p:cNvCxnSpPr>
              <a:stCxn id="249" idx="0"/>
              <a:endCxn id="247" idx="2"/>
            </p:cNvCxnSpPr>
            <p:nvPr/>
          </p:nvCxnSpPr>
          <p:spPr>
            <a:xfrm flipH="1" flipV="1" rot="5400000">
              <a:off x="2270520" y="4926240"/>
              <a:ext cx="229320" cy="8467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0" name="_s133164"/>
            <p:cNvCxnSpPr>
              <a:stCxn id="251" idx="0"/>
              <a:endCxn id="252" idx="2"/>
            </p:cNvCxnSpPr>
            <p:nvPr/>
          </p:nvCxnSpPr>
          <p:spPr>
            <a:xfrm flipV="1" rot="16200000">
              <a:off x="3650040" y="4042800"/>
              <a:ext cx="229320" cy="12416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3" name="_s133162"/>
            <p:cNvCxnSpPr>
              <a:stCxn id="247" idx="0"/>
              <a:endCxn id="252" idx="2"/>
            </p:cNvCxnSpPr>
            <p:nvPr/>
          </p:nvCxnSpPr>
          <p:spPr>
            <a:xfrm flipH="1" flipV="1" rot="5400000">
              <a:off x="2861640" y="4494960"/>
              <a:ext cx="229320" cy="3373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" name="_s133160"/>
            <p:cNvCxnSpPr>
              <a:stCxn id="255" idx="0"/>
              <a:endCxn id="256" idx="2"/>
            </p:cNvCxnSpPr>
            <p:nvPr/>
          </p:nvCxnSpPr>
          <p:spPr>
            <a:xfrm flipV="1" rot="16200000">
              <a:off x="4100400" y="3244680"/>
              <a:ext cx="229320" cy="14659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7" name="_s133158"/>
            <p:cNvCxnSpPr>
              <a:stCxn id="252" idx="0"/>
              <a:endCxn id="256" idx="2"/>
            </p:cNvCxnSpPr>
            <p:nvPr/>
          </p:nvCxnSpPr>
          <p:spPr>
            <a:xfrm flipH="1" flipV="1" rot="5400000">
              <a:off x="3198960" y="3808800"/>
              <a:ext cx="229320" cy="3384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8" name="_s133156"/>
            <p:cNvCxnSpPr>
              <a:stCxn id="259" idx="0"/>
              <a:endCxn id="260" idx="2"/>
            </p:cNvCxnSpPr>
            <p:nvPr/>
          </p:nvCxnSpPr>
          <p:spPr>
            <a:xfrm flipV="1" rot="16200000">
              <a:off x="6364440" y="1871280"/>
              <a:ext cx="229320" cy="28411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61" name="_s133154"/>
            <p:cNvCxnSpPr>
              <a:stCxn id="262" idx="0"/>
              <a:endCxn id="260" idx="2"/>
            </p:cNvCxnSpPr>
            <p:nvPr/>
          </p:nvCxnSpPr>
          <p:spPr>
            <a:xfrm flipV="1" rot="16200000">
              <a:off x="5259600" y="2976120"/>
              <a:ext cx="229320" cy="6318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63" name="_s133152"/>
            <p:cNvCxnSpPr>
              <a:stCxn id="256" idx="0"/>
              <a:endCxn id="260" idx="2"/>
            </p:cNvCxnSpPr>
            <p:nvPr/>
          </p:nvCxnSpPr>
          <p:spPr>
            <a:xfrm flipH="1" flipV="1" rot="5400000">
              <a:off x="4156200" y="2503440"/>
              <a:ext cx="229320" cy="15771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sp>
          <p:nvSpPr>
            <p:cNvPr id="264" name=""/>
            <p:cNvSpPr/>
            <p:nvPr/>
          </p:nvSpPr>
          <p:spPr>
            <a:xfrm>
              <a:off x="1187280" y="1989000"/>
              <a:ext cx="5135760" cy="4237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_s133150"/>
            <p:cNvSpPr/>
            <p:nvPr/>
          </p:nvSpPr>
          <p:spPr>
            <a:xfrm>
              <a:off x="4559040" y="2720880"/>
              <a:ext cx="100008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800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800080"/>
                  </a:solidFill>
                  <a:latin typeface="Arial"/>
                </a:rPr>
                <a:t>SYSTEME 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_s133151"/>
            <p:cNvSpPr/>
            <p:nvPr/>
          </p:nvSpPr>
          <p:spPr>
            <a:xfrm>
              <a:off x="2451240" y="3406680"/>
              <a:ext cx="206352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UNITE FONCTIONNELLE 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_s133153"/>
            <p:cNvSpPr/>
            <p:nvPr/>
          </p:nvSpPr>
          <p:spPr>
            <a:xfrm>
              <a:off x="4659480" y="3406680"/>
              <a:ext cx="206352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UNITE FONCTIONNELLE 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_s133155"/>
            <p:cNvSpPr/>
            <p:nvPr/>
          </p:nvSpPr>
          <p:spPr>
            <a:xfrm>
              <a:off x="6867360" y="3406680"/>
              <a:ext cx="206352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UNITE FONCTIONNELLE 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_s133157"/>
            <p:cNvSpPr/>
            <p:nvPr/>
          </p:nvSpPr>
          <p:spPr>
            <a:xfrm>
              <a:off x="2313720" y="4092480"/>
              <a:ext cx="165960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SOUS ENSEMBLE A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_s133159"/>
            <p:cNvSpPr/>
            <p:nvPr/>
          </p:nvSpPr>
          <p:spPr>
            <a:xfrm>
              <a:off x="4118040" y="4092480"/>
              <a:ext cx="165996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SOUS ENSEMBLE A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_s133161"/>
            <p:cNvSpPr/>
            <p:nvPr/>
          </p:nvSpPr>
          <p:spPr>
            <a:xfrm>
              <a:off x="2090160" y="4778280"/>
              <a:ext cx="143316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EQUIPEMENT AA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_s133163"/>
            <p:cNvSpPr/>
            <p:nvPr/>
          </p:nvSpPr>
          <p:spPr>
            <a:xfrm>
              <a:off x="3667680" y="4778280"/>
              <a:ext cx="143316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EQUIPEMENT AA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_s133165"/>
            <p:cNvSpPr/>
            <p:nvPr/>
          </p:nvSpPr>
          <p:spPr>
            <a:xfrm>
              <a:off x="1187280" y="5464080"/>
              <a:ext cx="154764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COMPOSANT AA 1.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_s133167"/>
            <p:cNvSpPr/>
            <p:nvPr/>
          </p:nvSpPr>
          <p:spPr>
            <a:xfrm>
              <a:off x="2879280" y="5464080"/>
              <a:ext cx="154728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COMPOSANT AA1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ffff"/>
                </a:solidFill>
                <a:latin typeface="Impact"/>
              </a:rPr>
              <a:t>POUR L ’ETAPE 3 </a:t>
            </a:r>
            <a:br>
              <a:rPr sz="3200"/>
            </a:br>
            <a:r>
              <a:rPr b="0" lang="fr-FR" sz="2800" spc="-1" strike="noStrike">
                <a:solidFill>
                  <a:srgbClr val="ccffff"/>
                </a:solidFill>
                <a:latin typeface="Impact"/>
              </a:rPr>
              <a:t>EXEMPLE DE GRILLE DE COTATION AMDEC SYSTEME   POUR LE CALCUL DE LA </a:t>
            </a:r>
            <a:r>
              <a:rPr b="0" lang="fr-FR" sz="2800" spc="-1" strike="noStrike">
                <a:solidFill>
                  <a:srgbClr val="ff0000"/>
                </a:solidFill>
                <a:latin typeface="Impact"/>
              </a:rPr>
              <a:t>CRITICITE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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LA COTATION DES CRITERES F (fréquence) , G (gravité) , D (détection) s ’effectue en général de 1 à 4 (ou à 5 ) , voire de 1 à 10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066680" y="2971800"/>
          <a:ext cx="8977320" cy="42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897732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Sommaire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La Sûreté de Fonctionnement (S.D.F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Présentation de la méthode générale ADMEC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Une méthode de managemen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Principe d’analys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1 exemple d’utilisation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332000" y="1303200"/>
          <a:ext cx="7488000" cy="52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03200"/>
                    <a:ext cx="7488000" cy="52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72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1 Exemple avec un système informatiqu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Découpage fonctionnel du système :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042920" y="2287440"/>
          <a:ext cx="809172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87440"/>
                    <a:ext cx="8091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Découpage des sous fonctions 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219320" y="2230560"/>
          <a:ext cx="77724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30560"/>
                    <a:ext cx="77724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ffff"/>
                </a:solidFill>
                <a:latin typeface="Impact"/>
              </a:rPr>
              <a:t>GRILLE DE COTATION AMDEC SYSTEME :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042920" y="1989000"/>
          <a:ext cx="807084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80708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Impact"/>
              </a:rPr>
              <a:t>ANALYSE AMDEC DU SYSTEME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042920" y="2060640"/>
          <a:ext cx="806472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8064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Impact"/>
              </a:rPr>
              <a:t>L ’AMDEC </a:t>
            </a:r>
            <a:br>
              <a:rPr sz="3400"/>
            </a:br>
            <a:r>
              <a:rPr b="0" lang="fr-FR" sz="2800" spc="-1" strike="noStrike">
                <a:solidFill>
                  <a:srgbClr val="ccffff"/>
                </a:solidFill>
                <a:latin typeface="Impact"/>
              </a:rPr>
              <a:t>Une méthode qu ’ il convient de 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ne pas systématiser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705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    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Ne permet pas en général de      prendre en compte les </a:t>
            </a:r>
            <a:r>
              <a:rPr b="0" lang="fr-FR" sz="3200" spc="-1" strike="noStrike">
                <a:solidFill>
                  <a:srgbClr val="ff0000"/>
                </a:solidFill>
                <a:latin typeface="Impact"/>
              </a:rPr>
              <a:t>Combinaisons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de plusieurs défaillances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219320" y="2049480"/>
            <a:ext cx="1774800" cy="2293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352680" y="2514600"/>
            <a:ext cx="2362320" cy="1905120"/>
          </a:xfrm>
          <a:prstGeom prst="wedgeEllipseCallout">
            <a:avLst>
              <a:gd name="adj1" fmla="val -80643"/>
              <a:gd name="adj2" fmla="val 641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COUTS PARFO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IMPORT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434340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Analyse des Effets des Erreurs du Logiciel (AEEL) :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L' AEEL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est une adaptation de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l'AMDEC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au niveau logiciel car on parle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d'erreur du logiciel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et non pas de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mode de défaillance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Un des buts de cette analyse est d'obtenir, pour chaque constituant d'un système logiciel,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une évaluation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sous la forme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d'un indice de criticité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représentatif du thème de l'étude que l'on souhaite réaliser 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771640" y="3284640"/>
            <a:ext cx="3962520" cy="175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39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'EST TERMINE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2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L’AMDEC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88680"/>
            <a:ext cx="7772400" cy="7239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LA SURETE  DE FONCTIONNEMENT  ( S D F )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3200400"/>
            <a:ext cx="4038480" cy="2514600"/>
          </a:xfrm>
          <a:custGeom>
            <a:avLst/>
            <a:gdLst>
              <a:gd name="textAreaLeft" fmla="*/ 1009440 w 4038480"/>
              <a:gd name="textAreaRight" fmla="*/ 3029040 w 4038480"/>
              <a:gd name="textAreaTop" fmla="*/ 628560 h 2514600"/>
              <a:gd name="textAreaBottom" fmla="*/ 1886040 h 251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2133720"/>
            <a:ext cx="1752480" cy="10666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FIABI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2971800"/>
            <a:ext cx="1066680" cy="289548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5715000"/>
            <a:ext cx="2362320" cy="914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1932"/>
                </a:solidFill>
                <a:latin typeface="Times New Roman"/>
              </a:rPr>
              <a:t>MAINTENABIL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3048120"/>
            <a:ext cx="1143000" cy="289548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42000" y="4098960"/>
            <a:ext cx="209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UR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ONCTIONN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373000">
            <a:off x="1255680" y="4226040"/>
            <a:ext cx="25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1932"/>
                </a:solidFill>
                <a:latin typeface="Times New Roman"/>
              </a:rPr>
              <a:t>DISPONIBI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73000">
            <a:off x="6287400" y="43063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1932"/>
                </a:solidFill>
                <a:latin typeface="Times New Roman"/>
              </a:rPr>
              <a:t>SECU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057400"/>
            <a:ext cx="2057400" cy="609480"/>
          </a:xfrm>
          <a:prstGeom prst="wedgeRectCallout">
            <a:avLst>
              <a:gd name="adj1" fmla="val -3935"/>
              <a:gd name="adj2" fmla="val 201300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s d ’arrêt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roduction!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2057400"/>
            <a:ext cx="1676520" cy="685800"/>
          </a:xfrm>
          <a:prstGeom prst="wedgeRectCallout">
            <a:avLst>
              <a:gd name="adj1" fmla="val -107953"/>
              <a:gd name="adj2" fmla="val 5949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nn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6095880"/>
            <a:ext cx="2362320" cy="609840"/>
          </a:xfrm>
          <a:prstGeom prst="wedgeRectCallout">
            <a:avLst>
              <a:gd name="adj1" fmla="val 76611"/>
              <a:gd name="adj2" fmla="val 2760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Remise en Ser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immédiat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6019920"/>
            <a:ext cx="2209680" cy="761760"/>
          </a:xfrm>
          <a:prstGeom prst="wedgeRectCallout">
            <a:avLst>
              <a:gd name="adj1" fmla="val -5388"/>
              <a:gd name="adj2" fmla="val -8895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Pas d ’évé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Critique o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Catastrophiqu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Impact"/>
              </a:rPr>
              <a:t>TECHNIQUES ET OUTILS DE LA SÛRETE DE FONCTIONNEMENT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2044800"/>
            <a:ext cx="777240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de modélisation comportementale et temporelles (AEF temporisés, rdp, files d’attente,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basés sur l’analyse des événements redoutés (AER, </a:t>
            </a:r>
            <a:r>
              <a:rPr b="0" lang="fr-FR" sz="2800" spc="-1" strike="noStrike">
                <a:solidFill>
                  <a:srgbClr val="ff0000"/>
                </a:solidFill>
                <a:latin typeface="Impact"/>
              </a:rPr>
              <a:t>AMDEC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, Coupes minim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d’évaluation quantitative : processus markoviens et semi markoviens, rdps, files d’attente, méthode Monte Carlo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d’analyse statique d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de suivi des tes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6661440" cy="4265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619280" y="2349360"/>
            <a:ext cx="1281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MDE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CH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flipH="1">
            <a:off x="4114440" y="3962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905120" y="3124080"/>
            <a:ext cx="1676160" cy="145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MDEC MOY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 PRODU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1371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Présentation</a:t>
            </a:r>
            <a:r>
              <a:rPr b="0" lang="fr-FR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de la méthode générale ADMEC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Impact"/>
              </a:rPr>
              <a:t>QUELQUES DEFINITIONS AVANT TOUT…..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1" lang="fr-FR" sz="3800" spc="-1" strike="noStrike">
                <a:solidFill>
                  <a:srgbClr val="ffff00"/>
                </a:solidFill>
                <a:latin typeface="Bookman Old Style"/>
              </a:rPr>
              <a:t>AMDE: </a:t>
            </a:r>
            <a:r>
              <a:rPr b="1" lang="fr-FR" sz="2800" spc="-1" strike="noStrike">
                <a:solidFill>
                  <a:srgbClr val="ffffff"/>
                </a:solidFill>
                <a:latin typeface="Bookman Old Style"/>
              </a:rPr>
              <a:t>Analyse des Modes de Défaillances et de leurs Effe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fr-FR" sz="2400" spc="-1" strike="noStrike">
                <a:solidFill>
                  <a:srgbClr val="00cc00"/>
                </a:solidFill>
                <a:latin typeface="Bookman Old Style"/>
              </a:rPr>
              <a:t>(FMEA:Failure Mode ,Effects Analysi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1" lang="fr-FR" sz="3800" spc="-1" strike="noStrike">
                <a:solidFill>
                  <a:srgbClr val="ffff00"/>
                </a:solidFill>
                <a:latin typeface="Bookman Old Style"/>
              </a:rPr>
              <a:t>AMDEC: </a:t>
            </a:r>
            <a:r>
              <a:rPr b="1" lang="fr-FR" sz="2800" spc="-1" strike="noStrike">
                <a:solidFill>
                  <a:srgbClr val="ffffff"/>
                </a:solidFill>
                <a:latin typeface="Bookman Old Style"/>
              </a:rPr>
              <a:t>Analyse des Modes de Défaillances , de leurs Effets et de leur Criticité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Bookman Old Style"/>
              </a:rPr>
              <a:t>(FMECA:Failure Mode ,Effects and Criticality Analysi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05720" y="4648320"/>
            <a:ext cx="1386000" cy="14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410080" y="1981080"/>
            <a:ext cx="3733920" cy="2210040"/>
          </a:xfrm>
          <a:prstGeom prst="wedgeEllipseCallout">
            <a:avLst>
              <a:gd name="adj1" fmla="val 18152"/>
              <a:gd name="adj2" fmla="val 7420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DEC  MOY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E  PRODUCTION (ou système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Analyse de la Concep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et /o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de l ’Exploitation d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Equipements de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 </a:t>
            </a: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pour améliorer leu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DISPONIBI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5181480"/>
            <a:ext cx="3657600" cy="1295640"/>
          </a:xfrm>
          <a:prstGeom prst="wedgeRoundRectCallout">
            <a:avLst>
              <a:gd name="adj1" fmla="val 93097"/>
              <a:gd name="adj2" fmla="val -9680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DEC PROCESSU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Analyse des opérations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Production pour améliorer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QUALITE de FABRICA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du produ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2057400"/>
            <a:ext cx="2743200" cy="1143000"/>
          </a:xfrm>
          <a:prstGeom prst="wedgeRoundRectCallout">
            <a:avLst>
              <a:gd name="adj1" fmla="val 139699"/>
              <a:gd name="adj2" fmla="val 216805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DEC PRODUI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Analyse de la Concep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d ’un produi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pour améliorer 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 </a:t>
            </a: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QUALITE et sa FIABIL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15200" y="4724280"/>
            <a:ext cx="1293840" cy="1828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96240" y="6556320"/>
            <a:ext cx="8532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Times New Roman"/>
              </a:rPr>
              <a:t>ON  PARLE  MAINTENANT  EGALEMENT  D ’AMDEC  SERVICE…ET  D ’AMDEC FOURNISSEURS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3505320"/>
            <a:ext cx="2819520" cy="1447560"/>
          </a:xfrm>
          <a:prstGeom prst="wedgeRoundRectCallout">
            <a:avLst>
              <a:gd name="adj1" fmla="val 158222"/>
              <a:gd name="adj2" fmla="val 77740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DEC SECURIT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Analyse des défailla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 </a:t>
            </a: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et d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prévisionnels s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un équipeme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pour améliorer 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 </a:t>
            </a: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Sécurité et la FIABIL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94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Impact"/>
              </a:rPr>
              <a:t>Plusieurs types d’AMDEC sont utilisées lors des différentes phases de conception ainsi qu’en exploitation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OBJECTIFS DE L ’AMDEC MOYEN DE PRODUCTION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56386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1932"/>
                </a:solidFill>
                <a:latin typeface="Wingdings"/>
                <a:ea typeface="Wingdings"/>
              </a:rPr>
              <a:t></a:t>
            </a: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  </a:t>
            </a: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Evaluer et Garantir:</a:t>
            </a:r>
            <a:endParaRPr b="0" lang="en-US" sz="3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la Fiabilité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la Maintenabilité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la Disponibilité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la Sécurité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238880" y="4994280"/>
            <a:ext cx="1600200" cy="153504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4800600" y="2133720"/>
            <a:ext cx="4038480" cy="2286000"/>
          </a:xfrm>
          <a:prstGeom prst="wedgeEllipseCallout">
            <a:avLst>
              <a:gd name="adj1" fmla="val -66745"/>
              <a:gd name="adj2" fmla="val 20555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 ’EST UNE COMPOSAN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LA SÛRETE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FONCTION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( S D F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4876920"/>
            <a:ext cx="69069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1932"/>
                </a:solidFill>
                <a:latin typeface="Wingdings"/>
                <a:ea typeface="Wingdings"/>
              </a:rPr>
              <a:t></a:t>
            </a: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Obtenir au meilleur coût l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Rendement Global Maximum d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Equipements de Produ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L ’AMDEC VISE A …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Prise en compte de la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MAINTENABILITE </a:t>
            </a: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dés la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CONCEP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Amélioration de la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TESTABILI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Aide au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DIAGNOSTIC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Amélioration de la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MAINTENANCE CORRECTIV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410080" y="5105520"/>
            <a:ext cx="1905120" cy="1636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943600" y="2666880"/>
            <a:ext cx="3124080" cy="2133720"/>
          </a:xfrm>
          <a:prstGeom prst="wedgeEllipseCallout">
            <a:avLst>
              <a:gd name="adj1" fmla="val -33333"/>
              <a:gd name="adj2" fmla="val 7157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 ’EST U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OMPOSAN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SOUTIEN  LOGIST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INTEG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( S L I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205740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Réduire les Temps  d ’Indisponibilité après défail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1T12:52:44Z</dcterms:created>
  <dc:creator>L. DAUJEARD</dc:creator>
  <dc:description/>
  <dc:language>en-US</dc:language>
  <cp:lastModifiedBy>Djino</cp:lastModifiedBy>
  <cp:lastPrinted>1999-08-25T14:15:26Z</cp:lastPrinted>
  <dcterms:modified xsi:type="dcterms:W3CDTF">2002-11-09T15:31:10Z</dcterms:modified>
  <cp:revision>285</cp:revision>
  <dc:subject>AMDEC</dc:subject>
  <dc:title>AMDEC MACHINE</dc:title>
</cp:coreProperties>
</file>