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4678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5754-AF5C-402C-A049-E6D07F276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A78B-3131-4AF0-8F09-01A2F76D8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9A51-CF8C-4B1C-B335-725A0BA4A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47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7496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219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47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7496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31C7-5768-4FCF-82F2-814D5E47E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D0378-92F1-41B4-ABD4-106CD58F2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C3E13-4B25-4C57-8C76-4CBB5261C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54224-954E-43F4-8468-8FD01C72F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1C676-72A2-46D3-A34A-D6FBB1426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B2073-DA28-4CDD-B08C-424D3FAED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121932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0749B-9D95-4BCE-9769-305628BBE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0CD1E-5EEF-439F-BB7E-43EC35740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C954-8C6D-43F6-B083-E6791851F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30117-9575-465B-8707-BFA74E07D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BCAFD-A83B-4BA5-9F00-D716904AD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97A47-B72E-4F07-9035-5EE10BD3D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AC635-431E-4FA1-B58E-56F686C3B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847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47496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1219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847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47496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AF530-BFCE-4966-BE36-42A915382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AED4-9751-40E1-A5B4-6136D6B9E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E8EE-73B7-4A55-8237-0F9BEE1AC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9D0F-DECB-4A37-82C3-5AC651D8E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21932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DF45-DF0E-4142-B2EB-19F577C9B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3097-7F20-4E19-88D6-2E19C58D8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BAF6-D7E1-4C36-B768-8A703A2BD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20A5-91B1-4B0A-A2DE-4FD3D960B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63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2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5D99F-5608-4A3C-9DC1-BF7CC25AC7D9}" type="slidenum">
              <a:rPr b="0" lang="fr-FR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6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546840" y="1703520"/>
            <a:ext cx="8596440" cy="25380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9209160" y="16765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20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5" name="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c6d9a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c6d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52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dt" idx="4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sldNum" idx="6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30179-B425-4A1A-A04C-0242792A5C4F}" type="slidenum">
              <a:rPr b="0" lang="fr-FR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72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46840" y="2717640"/>
            <a:ext cx="8596440" cy="25416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236160" y="26971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86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19320" y="380520"/>
            <a:ext cx="7772400" cy="876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Impact"/>
              </a:rPr>
              <a:t>LA SURETE DE FONCTIONNEMENT ( S D F )</a:t>
            </a:r>
            <a:endParaRPr b="0" lang="en-US" sz="38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723920" y="1676160"/>
            <a:ext cx="5715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Bookman Old Style"/>
              </a:rPr>
              <a:t>Nicolas DAUJEARD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Bookman Old Style"/>
              </a:rPr>
              <a:t>IR3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676520" y="4038480"/>
            <a:ext cx="2874960" cy="222408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5029200" y="3429000"/>
            <a:ext cx="2819520" cy="1981080"/>
          </a:xfrm>
          <a:prstGeom prst="cloudCallout">
            <a:avLst>
              <a:gd name="adj1" fmla="val -96620"/>
              <a:gd name="adj2" fmla="val -11138"/>
            </a:avLst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410080" y="3959280"/>
            <a:ext cx="213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SECURITE, ANALYSE DES RISQUES, PLANS DE PREVENTION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523880" y="2590920"/>
            <a:ext cx="242892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C'EST PARTI !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6705720" y="5327640"/>
            <a:ext cx="2085840" cy="12682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2484360" y="3068640"/>
            <a:ext cx="3962520" cy="17524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3938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C'EST TERMINE.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723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Impact"/>
              </a:rPr>
              <a:t>LA SURETE  DE FONCTIONNEMENT  ( S D F )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</p:spTree>
  </p:cSld>
  <p:transition spd="med">
    <p:wipe dir="d"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723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Impact"/>
              </a:rPr>
              <a:t>DEFINITION DE LA SDF</a:t>
            </a:r>
            <a:endParaRPr b="0" lang="en-US" sz="40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38" name=""/>
          <p:cNvSpPr/>
          <p:nvPr/>
        </p:nvSpPr>
        <p:spPr>
          <a:xfrm>
            <a:off x="2971800" y="3200400"/>
            <a:ext cx="4038480" cy="2514600"/>
          </a:xfrm>
          <a:custGeom>
            <a:avLst/>
            <a:gdLst>
              <a:gd name="textAreaLeft" fmla="*/ 1009440 w 4038480"/>
              <a:gd name="textAreaRight" fmla="*/ 3029040 w 4038480"/>
              <a:gd name="textAreaTop" fmla="*/ 628560 h 2514600"/>
              <a:gd name="textAreaBottom" fmla="*/ 1886040 h 251460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114800" y="2133720"/>
            <a:ext cx="1752480" cy="1066680"/>
          </a:xfrm>
          <a:prstGeom prst="flowChartAlternateProcess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FIABILI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934320" y="2971800"/>
            <a:ext cx="1066680" cy="2895480"/>
          </a:xfrm>
          <a:prstGeom prst="flowChartAlternateProcess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809880" y="5715000"/>
            <a:ext cx="2362320" cy="91440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1932"/>
                </a:solidFill>
                <a:latin typeface="Times New Roman"/>
              </a:rPr>
              <a:t>MAINTENABILI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905120" y="3048120"/>
            <a:ext cx="1143000" cy="2895480"/>
          </a:xfrm>
          <a:prstGeom prst="flowChartAlternateProcess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942000" y="4098960"/>
            <a:ext cx="2093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SURE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FONCTIONNEM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rot="5373000">
            <a:off x="1255680" y="4226040"/>
            <a:ext cx="250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1932"/>
                </a:solidFill>
                <a:latin typeface="Times New Roman"/>
              </a:rPr>
              <a:t>DISPONIBILI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rot="5373000">
            <a:off x="6287400" y="4306320"/>
            <a:ext cx="23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1932"/>
                </a:solidFill>
                <a:latin typeface="Times New Roman"/>
              </a:rPr>
              <a:t>SECURI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066680" y="2057400"/>
            <a:ext cx="2057400" cy="609480"/>
          </a:xfrm>
          <a:prstGeom prst="wedgeRectCallout">
            <a:avLst>
              <a:gd name="adj1" fmla="val -3935"/>
              <a:gd name="adj2" fmla="val 201300"/>
            </a:avLst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1932"/>
                </a:solidFill>
                <a:latin typeface="Times New Roman"/>
              </a:rPr>
              <a:t>Pas d ’arrêts d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1932"/>
                </a:solidFill>
                <a:latin typeface="Times New Roman"/>
              </a:rPr>
              <a:t>Production!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0" y="2057400"/>
            <a:ext cx="1676520" cy="685800"/>
          </a:xfrm>
          <a:prstGeom prst="wedgeRectCallout">
            <a:avLst>
              <a:gd name="adj1" fmla="val -107953"/>
              <a:gd name="adj2" fmla="val 59490"/>
            </a:avLst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1932"/>
                </a:solidFill>
                <a:latin typeface="Times New Roman"/>
              </a:rPr>
              <a:t>Pas 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1932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1932"/>
                </a:solidFill>
                <a:latin typeface="Times New Roman"/>
              </a:rPr>
              <a:t>Pannes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6095880"/>
            <a:ext cx="2362320" cy="609840"/>
          </a:xfrm>
          <a:prstGeom prst="wedgeRectCallout">
            <a:avLst>
              <a:gd name="adj1" fmla="val 76611"/>
              <a:gd name="adj2" fmla="val 27606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1932"/>
                </a:solidFill>
                <a:latin typeface="Times New Roman"/>
              </a:rPr>
              <a:t>Remise en Servic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1932"/>
                </a:solidFill>
                <a:latin typeface="Times New Roman"/>
              </a:rPr>
              <a:t>immédiate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629400" y="6019920"/>
            <a:ext cx="2209680" cy="761760"/>
          </a:xfrm>
          <a:prstGeom prst="wedgeRectCallout">
            <a:avLst>
              <a:gd name="adj1" fmla="val -5388"/>
              <a:gd name="adj2" fmla="val -88958"/>
            </a:avLst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1932"/>
                </a:solidFill>
                <a:latin typeface="Times New Roman"/>
              </a:rPr>
              <a:t>Pas d ’événe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1932"/>
                </a:solidFill>
                <a:latin typeface="Times New Roman"/>
              </a:rPr>
              <a:t>Critique ou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1932"/>
                </a:solidFill>
                <a:latin typeface="Times New Roman"/>
              </a:rPr>
              <a:t>Catastrophique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213372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0000"/>
                </a:solidFill>
                <a:latin typeface="Arial"/>
              </a:rPr>
              <a:t>FIABILITE , MAINTENABILITE , DISPONIBILITE , SECURI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447920" y="2819520"/>
            <a:ext cx="1371600" cy="1143000"/>
          </a:xfrm>
          <a:custGeom>
            <a:avLst/>
            <a:gdLst>
              <a:gd name="textAreaLeft" fmla="*/ 183600 w 1371600"/>
              <a:gd name="textAreaRight" fmla="*/ 1188000 w 137160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048120" y="2895480"/>
            <a:ext cx="609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0000"/>
                </a:solidFill>
                <a:latin typeface="Times New Roman"/>
              </a:rPr>
              <a:t>MAITRISE  DES RISQUES PREVISIONNELS EVALUES SUR UN SYSTEME EN CONCEP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495680" y="3581280"/>
            <a:ext cx="609840" cy="838440"/>
          </a:xfrm>
          <a:prstGeom prst="downArrow">
            <a:avLst>
              <a:gd name="adj1" fmla="val 50000"/>
              <a:gd name="adj2" fmla="val 34371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143000" y="4343400"/>
            <a:ext cx="3352680" cy="990720"/>
          </a:xfrm>
          <a:prstGeom prst="flowChartAlternateProcess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RECENSEMENT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SYSTEMATIQ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DES RISQU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181480" y="4267080"/>
            <a:ext cx="3505320" cy="1067040"/>
          </a:xfrm>
          <a:prstGeom prst="flowChartAlternateProcess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EVALUATION D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RISQUES E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COURS DE CONCEP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620120" y="5562720"/>
            <a:ext cx="1295280" cy="1295280"/>
          </a:xfrm>
          <a:custGeom>
            <a:avLst/>
            <a:gdLst>
              <a:gd name="textAreaLeft" fmla="*/ 173520 w 1295280"/>
              <a:gd name="textAreaRight" fmla="*/ 1121760 w 1295280"/>
              <a:gd name="textAreaTop" fmla="*/ 226440 h 1295280"/>
              <a:gd name="textAreaBottom" fmla="*/ 93924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19320" y="5851440"/>
            <a:ext cx="6095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0000"/>
                </a:solidFill>
                <a:latin typeface="Times New Roman"/>
              </a:rPr>
              <a:t>MAITRISE  DES RISQUES RESIDUELS SUR UN SYSTEME EN EXPLOITATION OPERATIONNEL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87280" y="620280"/>
            <a:ext cx="7772400" cy="72396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Impact"/>
              </a:rPr>
              <a:t>PRINCIPES DE LA SDF</a:t>
            </a:r>
            <a:endParaRPr b="0" lang="en-US" sz="4000" spc="-1" strike="noStrike">
              <a:solidFill>
                <a:srgbClr val="ccffff"/>
              </a:solidFill>
              <a:latin typeface="Impact"/>
            </a:endParaRPr>
          </a:p>
        </p:txBody>
      </p:sp>
    </p:spTree>
  </p:cSld>
  <p:transition spd="med">
    <p:wipe dir="d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000"/>
                            </p:stCondLst>
                            <p:childTnLst>
                              <p:par>
                                <p:cTn id="93" nodeType="afterEffect" fill="hold" presetClass="entr" presetID="23" presetSubtype="27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Impact"/>
              </a:rPr>
              <a:t>TECHNIQUES ET OUTILS DE LA SÛRETE DE FONCTIONNEMENT</a:t>
            </a:r>
            <a:endParaRPr b="0" lang="en-US" sz="28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60" name=""/>
          <p:cNvSpPr/>
          <p:nvPr/>
        </p:nvSpPr>
        <p:spPr>
          <a:xfrm>
            <a:off x="1066680" y="2057400"/>
            <a:ext cx="2590920" cy="914400"/>
          </a:xfrm>
          <a:prstGeom prst="bevel">
            <a:avLst>
              <a:gd name="adj" fmla="val 12500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ANALY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QUANTITATIV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19320" y="3886200"/>
            <a:ext cx="1904760" cy="114300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DIAGRAMME  D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FIABILI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352680" y="3886200"/>
            <a:ext cx="1600200" cy="114300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AMDE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105520" y="3886200"/>
            <a:ext cx="1904760" cy="114300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ANALY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MAINTENABILI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238880" y="3962520"/>
            <a:ext cx="1828800" cy="114300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ARBRE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DEFAILLANC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133720" y="297180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003300"/>
          </a:solidFill>
          <a:ln w="936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01000" y="5105520"/>
            <a:ext cx="304920" cy="457200"/>
          </a:xfrm>
          <a:prstGeom prst="downArrow">
            <a:avLst>
              <a:gd name="adj1" fmla="val 50000"/>
              <a:gd name="adj2" fmla="val 37485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9880" y="2057400"/>
            <a:ext cx="2514600" cy="914400"/>
          </a:xfrm>
          <a:prstGeom prst="bevel">
            <a:avLst>
              <a:gd name="adj" fmla="val 12500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ANALY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FONCTIONNEL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477120" y="2057400"/>
            <a:ext cx="2590560" cy="914400"/>
          </a:xfrm>
          <a:prstGeom prst="bevel">
            <a:avLst>
              <a:gd name="adj" fmla="val 12500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ANALY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PRELIMINAIR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DES RISQU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219320" y="5486400"/>
            <a:ext cx="2743200" cy="609480"/>
          </a:xfrm>
          <a:prstGeom prst="bevel">
            <a:avLst>
              <a:gd name="adj" fmla="val 12500"/>
            </a:avLst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1932"/>
                </a:solidFill>
                <a:latin typeface="Times New Roman"/>
              </a:rPr>
              <a:t>Optimis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1932"/>
                </a:solidFill>
                <a:latin typeface="Times New Roman"/>
              </a:rPr>
              <a:t> </a:t>
            </a:r>
            <a:r>
              <a:rPr b="1" lang="fr-FR" sz="1600" spc="-1" strike="noStrike">
                <a:solidFill>
                  <a:srgbClr val="001932"/>
                </a:solidFill>
                <a:latin typeface="Times New Roman"/>
              </a:rPr>
              <a:t>de la Fiabilité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191120" y="5486400"/>
            <a:ext cx="2743200" cy="609480"/>
          </a:xfrm>
          <a:prstGeom prst="bevel">
            <a:avLst>
              <a:gd name="adj" fmla="val 12500"/>
            </a:avLst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1932"/>
                </a:solidFill>
                <a:latin typeface="Times New Roman"/>
              </a:rPr>
              <a:t>Optimis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1932"/>
                </a:solidFill>
                <a:latin typeface="Times New Roman"/>
              </a:rPr>
              <a:t>de la Maintenabilité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162920" y="5638680"/>
            <a:ext cx="1828800" cy="1067040"/>
          </a:xfrm>
          <a:prstGeom prst="bevel">
            <a:avLst>
              <a:gd name="adj" fmla="val 12500"/>
            </a:avLst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1932"/>
                </a:solidFill>
                <a:latin typeface="Times New Roman"/>
              </a:rPr>
              <a:t>Optimis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1932"/>
                </a:solidFill>
                <a:latin typeface="Times New Roman"/>
              </a:rPr>
              <a:t>de l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1932"/>
                </a:solidFill>
                <a:latin typeface="Times New Roman"/>
              </a:rPr>
              <a:t>Sécurité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867280" y="5105520"/>
            <a:ext cx="381240" cy="30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981080" y="5029200"/>
            <a:ext cx="38124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800600" y="2971800"/>
            <a:ext cx="304920" cy="457200"/>
          </a:xfrm>
          <a:prstGeom prst="downArrow">
            <a:avLst>
              <a:gd name="adj1" fmla="val 50000"/>
              <a:gd name="adj2" fmla="val 37485"/>
            </a:avLst>
          </a:prstGeom>
          <a:solidFill>
            <a:srgbClr val="003300"/>
          </a:solidFill>
          <a:ln w="936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077320" y="2971800"/>
            <a:ext cx="380880" cy="914400"/>
          </a:xfrm>
          <a:prstGeom prst="downArrow">
            <a:avLst>
              <a:gd name="adj1" fmla="val 50000"/>
              <a:gd name="adj2" fmla="val 60019"/>
            </a:avLst>
          </a:prstGeom>
          <a:solidFill>
            <a:srgbClr val="003300"/>
          </a:solidFill>
          <a:ln w="936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3429000"/>
            <a:ext cx="6324480" cy="152280"/>
          </a:xfrm>
          <a:prstGeom prst="rect">
            <a:avLst/>
          </a:prstGeom>
          <a:solidFill>
            <a:srgbClr val="0019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23880" y="3429000"/>
            <a:ext cx="304920" cy="457200"/>
          </a:xfrm>
          <a:prstGeom prst="downArrow">
            <a:avLst>
              <a:gd name="adj1" fmla="val 50000"/>
              <a:gd name="adj2" fmla="val 37485"/>
            </a:avLst>
          </a:prstGeom>
          <a:solidFill>
            <a:srgbClr val="003300"/>
          </a:solidFill>
          <a:ln w="936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962520" y="342900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003300"/>
          </a:solidFill>
          <a:ln w="936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791320" y="342900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003300"/>
          </a:solidFill>
          <a:ln w="936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696080" y="3429000"/>
            <a:ext cx="304920" cy="457200"/>
          </a:xfrm>
          <a:prstGeom prst="downArrow">
            <a:avLst>
              <a:gd name="adj1" fmla="val 50000"/>
              <a:gd name="adj2" fmla="val 37485"/>
            </a:avLst>
          </a:prstGeom>
          <a:solidFill>
            <a:srgbClr val="003300"/>
          </a:solidFill>
          <a:ln w="936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6172200"/>
            <a:ext cx="2971800" cy="609480"/>
          </a:xfrm>
          <a:prstGeom prst="bevel">
            <a:avLst>
              <a:gd name="adj" fmla="val 12500"/>
            </a:avLst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Optimis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de la Disponibilité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828800" y="6172200"/>
            <a:ext cx="685800" cy="457200"/>
          </a:xfrm>
          <a:custGeom>
            <a:avLst/>
            <a:gdLst>
              <a:gd name="textAreaLeft" fmla="*/ 91800 w 685800"/>
              <a:gd name="textAreaRight" fmla="*/ 594000 w 685800"/>
              <a:gd name="textAreaTop" fmla="*/ 79920 h 457200"/>
              <a:gd name="textAreaBottom" fmla="*/ 33156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095880" y="6172200"/>
            <a:ext cx="733680" cy="533520"/>
          </a:xfrm>
          <a:custGeom>
            <a:avLst/>
            <a:gdLst>
              <a:gd name="textAreaLeft" fmla="*/ 98280 w 733680"/>
              <a:gd name="textAreaRight" fmla="*/ 635400 w 733680"/>
              <a:gd name="textAreaTop" fmla="*/ 93240 h 533520"/>
              <a:gd name="textAreaBottom" fmla="*/ 38700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209680" y="5029200"/>
            <a:ext cx="3962520" cy="152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23" presetSubtype="27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500"/>
                            </p:stCondLst>
                            <p:childTnLst>
                              <p:par>
                                <p:cTn id="116" nodeType="afterEffect" fill="hold" presetClass="entr" presetID="23" presetSubtype="27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0"/>
                            </p:stCondLst>
                            <p:childTnLst>
                              <p:par>
                                <p:cTn id="121" nodeType="afterEffect" fill="hold" presetClass="entr" presetID="23" presetSubtype="27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7500"/>
                            </p:stCondLst>
                            <p:childTnLst>
                              <p:par>
                                <p:cTn id="126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9000"/>
                            </p:stCondLst>
                            <p:childTnLst>
                              <p:par>
                                <p:cTn id="131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500"/>
                            </p:stCondLst>
                            <p:childTnLst>
                              <p:par>
                                <p:cTn id="136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2000"/>
                            </p:stCondLst>
                            <p:childTnLst>
                              <p:par>
                                <p:cTn id="14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000"/>
                            </p:stCondLst>
                            <p:childTnLst>
                              <p:par>
                                <p:cTn id="2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4000"/>
                            </p:stCondLst>
                            <p:childTnLst>
                              <p:par>
                                <p:cTn id="242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914400" y="1411200"/>
            <a:ext cx="8229600" cy="537048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16000" y="475920"/>
            <a:ext cx="7772400" cy="654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Impact"/>
              </a:rPr>
              <a:t>EXEMPLE DE DECOUPAGE FONCTIONNEL D ’UN SYSTEME</a:t>
            </a:r>
            <a:endParaRPr b="0" lang="en-US" sz="2800" spc="-1" strike="noStrike">
              <a:solidFill>
                <a:srgbClr val="ccffff"/>
              </a:solidFill>
              <a:latin typeface="Impact"/>
            </a:endParaRPr>
          </a:p>
        </p:txBody>
      </p:sp>
    </p:spTree>
  </p:cSld>
  <p:transition spd="med">
    <p:wipe dir="d"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16" presetSubtype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5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990720" y="1434960"/>
            <a:ext cx="8153280" cy="542304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71600" y="333360"/>
            <a:ext cx="7772400" cy="720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Impact"/>
              </a:rPr>
              <a:t>EXEMPLE D ’ANALYSE FONCTIONNELLE DES ETATS D ’UN SYSTEME</a:t>
            </a:r>
            <a:endParaRPr b="0" lang="en-US" sz="2400" spc="-1" strike="noStrike">
              <a:solidFill>
                <a:srgbClr val="ccffff"/>
              </a:solidFill>
              <a:latin typeface="Impact"/>
            </a:endParaRPr>
          </a:p>
        </p:txBody>
      </p:sp>
    </p:spTree>
  </p:cSld>
  <p:transition spd="med">
    <p:wipe dir="d"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Impact"/>
              </a:rPr>
              <a:t>ANALYSE QUANTITATIVE ET DIAGRAMME DE FIABILITE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2362320"/>
            <a:ext cx="7162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A partir de l ’analyse fonctionnelle, on dresse une schématisation du système sous forme de diagrammes  afin de montrer les équipements en série et en redondanc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572000" y="4191120"/>
            <a:ext cx="914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505320"/>
            <a:ext cx="8001000" cy="243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828800" y="4343400"/>
            <a:ext cx="380880" cy="380880"/>
          </a:xfrm>
          <a:prstGeom prst="ellipse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895480" y="4272120"/>
            <a:ext cx="762120" cy="520560"/>
          </a:xfrm>
          <a:prstGeom prst="rect">
            <a:avLst/>
          </a:prstGeom>
          <a:solidFill>
            <a:srgbClr val="00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343400" y="3952800"/>
            <a:ext cx="8380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Times New Roman"/>
              </a:rPr>
              <a:t>B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43400" y="4791240"/>
            <a:ext cx="8380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Times New Roman"/>
              </a:rPr>
              <a:t>B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715000" y="3733920"/>
            <a:ext cx="76212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Times New Roman"/>
              </a:rPr>
              <a:t>C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715000" y="4419720"/>
            <a:ext cx="76212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Times New Roman"/>
              </a:rPr>
              <a:t>C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15000" y="5079960"/>
            <a:ext cx="76212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Times New Roman"/>
              </a:rPr>
              <a:t>C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010280" y="4343400"/>
            <a:ext cx="381240" cy="380880"/>
          </a:xfrm>
          <a:prstGeom prst="ellipse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0000"/>
                </a:solidFill>
                <a:latin typeface="Times New Roman"/>
              </a:rPr>
              <a:t>2/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467480" y="44956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09680" y="45720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962520" y="4191120"/>
            <a:ext cx="0" cy="838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50292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1911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486400" y="3886200"/>
            <a:ext cx="0" cy="1447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486400" y="533412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486400" y="457200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486400" y="388620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477120" y="3962520"/>
            <a:ext cx="53316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477120" y="457200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6477120" y="4647960"/>
            <a:ext cx="53316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57600" y="457200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181480" y="419112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181480" y="502920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334120" y="4191120"/>
            <a:ext cx="0" cy="838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334120" y="457200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523880" y="5622840"/>
            <a:ext cx="7162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cc00"/>
                </a:solidFill>
                <a:latin typeface="Times New Roman"/>
              </a:rPr>
              <a:t>En introduisant les données quantitatives (MTBF, MTTR..), il est possible de tracer les courbes de fiabilité, maintenabilité et disponibilité en fonction du temp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990720" y="1554120"/>
            <a:ext cx="8153280" cy="530388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619280" y="404640"/>
            <a:ext cx="6665760" cy="849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Impact"/>
              </a:rPr>
              <a:t>EXEMPLE DE COURBE DE FIABILITE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</p:spTree>
  </p:cSld>
  <p:transition spd="med">
    <p:wipe dir="d"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Impact"/>
              </a:rPr>
              <a:t>ANALYSE PRELIMINAIRE DES RISQUES ET ARBRES DE DEFAILLANCE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22" name=""/>
          <p:cNvSpPr/>
          <p:nvPr/>
        </p:nvSpPr>
        <p:spPr>
          <a:xfrm>
            <a:off x="1371600" y="2057400"/>
            <a:ext cx="7162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Times New Roman"/>
              </a:rPr>
              <a:t>L ’objectif est de mettre en évidence les combinaisons possibles d ’événements qui entraînent la réalisation d ’événements redoutés et de représenter ces combinaisons sous la forme d ’une structure arborescen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371600" y="2819520"/>
            <a:ext cx="7086600" cy="396216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8534520" y="20574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5586" y="10800"/>
                </a:moveTo>
                <a:lnTo>
                  <a:pt x="19599" y="3794"/>
                </a:lnTo>
                <a:lnTo>
                  <a:pt x="19599" y="17806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9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4-01T12:52:44Z</dcterms:created>
  <dc:creator>M.L. DAUJEARD</dc:creator>
  <dc:description/>
  <dc:language>en-US</dc:language>
  <cp:lastModifiedBy>Djino</cp:lastModifiedBy>
  <cp:lastPrinted>1998-09-15T11:37:22Z</cp:lastPrinted>
  <dcterms:modified xsi:type="dcterms:W3CDTF">2002-11-09T15:22:47Z</dcterms:modified>
  <cp:revision>176</cp:revision>
  <dc:subject/>
  <dc:title>PROFIL ET AVENIR DE L ’HOMME DE MAINTENANCE DE DEMAIN……...</dc:title>
</cp:coreProperties>
</file>