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1C9-88FE-41C7-9DF1-974A9C03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4A9-D8DF-4787-8A99-D7B6F1CF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6E6-99D3-49ED-8D3E-4643138E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7B2-D2B4-4864-8381-A6E252EF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017-C8D2-4A81-B3CE-0C12C307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BBD-EF65-41D1-B9DD-662A8AD4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9F9-E5D6-4B8A-9A18-6C7DDA97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701-30C1-4427-9EC9-8006DCBB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BAB-48BB-48ED-8993-87040ACA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C70-3CFA-463A-B5B5-761DF1D4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FA8-A902-4DCF-A581-FAB7E810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D58-ABC8-48C0-B9F5-FDE7047F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97C-2D7F-4F5B-A755-CDED2DF43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dministration Windows NT et alternatives Lin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LON David – Sept.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6094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286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76520"/>
            <a:ext cx="784836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 1991,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ndrew Tridgell développe un programme de gestion de fichiers basé sur SMB (Server Message Block) implémenté par Microsoft et I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jourd’hui, Samba est géré et développé par la SAMBA  TEAM sous la direction active d’Andrew Tridge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mba : Open Source, distribué sous licence GPL G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icrosoft contribue matériellement à promouvoir la définition de SMB et du système de fichiers CIFS (Common Internet File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IFS est le nom retenu par Microsoft pour les futures versions du protocole SMB intégré dans Windo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amba :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ichier de configuration : smb.co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mbmount / smbu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mb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mb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n partage : sm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n NetBios : nm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Sam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62280" y="3414600"/>
            <a:ext cx="3638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730840"/>
            <a:ext cx="2228760" cy="82224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60958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5486040" y="31240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1981080"/>
            <a:ext cx="16761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747960"/>
            <a:ext cx="2057400" cy="29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400800" y="3276720"/>
            <a:ext cx="9907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7543800" y="2590920"/>
            <a:ext cx="8049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981080" y="1981080"/>
            <a:ext cx="1054080" cy="1066680"/>
            <a:chOff x="1981080" y="1981080"/>
            <a:chExt cx="1054080" cy="1066680"/>
          </a:xfrm>
        </p:grpSpPr>
        <p:pic>
          <p:nvPicPr>
            <p:cNvPr id="158" name="" descr=""/>
            <p:cNvPicPr/>
            <p:nvPr/>
          </p:nvPicPr>
          <p:blipFill>
            <a:blip r:embed="rId8"/>
            <a:stretch/>
          </p:blipFill>
          <p:spPr>
            <a:xfrm>
              <a:off x="198108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maracas" descr=""/>
            <p:cNvPicPr/>
            <p:nvPr/>
          </p:nvPicPr>
          <p:blipFill>
            <a:blip r:embed="rId9"/>
            <a:stretch/>
          </p:blipFill>
          <p:spPr>
            <a:xfrm>
              <a:off x="259056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5824440" y="1981080"/>
            <a:ext cx="804960" cy="10670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3060720" y="1981080"/>
            <a:ext cx="1054080" cy="1066680"/>
            <a:chOff x="3060720" y="1981080"/>
            <a:chExt cx="1054080" cy="1066680"/>
          </a:xfrm>
        </p:grpSpPr>
        <p:pic>
          <p:nvPicPr>
            <p:cNvPr id="162" name="" descr=""/>
            <p:cNvPicPr/>
            <p:nvPr/>
          </p:nvPicPr>
          <p:blipFill>
            <a:blip r:embed="rId11"/>
            <a:stretch/>
          </p:blipFill>
          <p:spPr>
            <a:xfrm>
              <a:off x="306072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maracas" descr=""/>
            <p:cNvPicPr/>
            <p:nvPr/>
          </p:nvPicPr>
          <p:blipFill>
            <a:blip r:embed="rId12"/>
            <a:stretch/>
          </p:blipFill>
          <p:spPr>
            <a:xfrm>
              <a:off x="367020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609480" y="3276720"/>
            <a:ext cx="1054080" cy="1066680"/>
            <a:chOff x="609480" y="3276720"/>
            <a:chExt cx="1054080" cy="1066680"/>
          </a:xfrm>
        </p:grpSpPr>
        <p:pic>
          <p:nvPicPr>
            <p:cNvPr id="165" name="" descr=""/>
            <p:cNvPicPr/>
            <p:nvPr/>
          </p:nvPicPr>
          <p:blipFill>
            <a:blip r:embed="rId13"/>
            <a:stretch/>
          </p:blipFill>
          <p:spPr>
            <a:xfrm>
              <a:off x="609480" y="327672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maracas" descr=""/>
            <p:cNvPicPr/>
            <p:nvPr/>
          </p:nvPicPr>
          <p:blipFill>
            <a:blip r:embed="rId14"/>
            <a:stretch/>
          </p:blipFill>
          <p:spPr>
            <a:xfrm>
              <a:off x="1218960" y="358128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5486400" y="4952880"/>
            <a:ext cx="1054080" cy="1066680"/>
            <a:chOff x="5486400" y="4952880"/>
            <a:chExt cx="1054080" cy="1066680"/>
          </a:xfrm>
        </p:grpSpPr>
        <p:pic>
          <p:nvPicPr>
            <p:cNvPr id="168" name="" descr=""/>
            <p:cNvPicPr/>
            <p:nvPr/>
          </p:nvPicPr>
          <p:blipFill>
            <a:blip r:embed="rId15"/>
            <a:stretch/>
          </p:blipFill>
          <p:spPr>
            <a:xfrm>
              <a:off x="5486400" y="49528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maracas" descr=""/>
            <p:cNvPicPr/>
            <p:nvPr/>
          </p:nvPicPr>
          <p:blipFill>
            <a:blip r:embed="rId16"/>
            <a:stretch/>
          </p:blipFill>
          <p:spPr>
            <a:xfrm>
              <a:off x="6095880" y="52574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4191120" y="3124080"/>
            <a:ext cx="1129320" cy="1066680"/>
            <a:chOff x="4191120" y="3124080"/>
            <a:chExt cx="1129320" cy="1066680"/>
          </a:xfrm>
        </p:grpSpPr>
        <p:pic>
          <p:nvPicPr>
            <p:cNvPr id="171" name="" descr=""/>
            <p:cNvPicPr/>
            <p:nvPr/>
          </p:nvPicPr>
          <p:blipFill>
            <a:blip r:embed="rId17"/>
            <a:stretch/>
          </p:blipFill>
          <p:spPr>
            <a:xfrm>
              <a:off x="4191120" y="3124080"/>
              <a:ext cx="8625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maracas" descr=""/>
            <p:cNvPicPr/>
            <p:nvPr/>
          </p:nvPicPr>
          <p:blipFill>
            <a:blip r:embed="rId18"/>
            <a:stretch/>
          </p:blipFill>
          <p:spPr>
            <a:xfrm>
              <a:off x="4844160" y="3428640"/>
              <a:ext cx="4762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7327800" y="4343400"/>
            <a:ext cx="1054080" cy="1066680"/>
            <a:chOff x="7327800" y="4343400"/>
            <a:chExt cx="1054080" cy="1066680"/>
          </a:xfrm>
        </p:grpSpPr>
        <p:pic>
          <p:nvPicPr>
            <p:cNvPr id="174" name="" descr=""/>
            <p:cNvPicPr/>
            <p:nvPr/>
          </p:nvPicPr>
          <p:blipFill>
            <a:blip r:embed="rId19"/>
            <a:stretch/>
          </p:blipFill>
          <p:spPr>
            <a:xfrm>
              <a:off x="7327800" y="434340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maracas" descr=""/>
            <p:cNvPicPr/>
            <p:nvPr/>
          </p:nvPicPr>
          <p:blipFill>
            <a:blip r:embed="rId20"/>
            <a:stretch/>
          </p:blipFill>
          <p:spPr>
            <a:xfrm>
              <a:off x="7937280" y="464796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" descr=""/>
          <p:cNvPicPr/>
          <p:nvPr/>
        </p:nvPicPr>
        <p:blipFill>
          <a:blip r:embed="rId21"/>
          <a:stretch/>
        </p:blipFill>
        <p:spPr>
          <a:xfrm>
            <a:off x="3124080" y="5410080"/>
            <a:ext cx="12319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D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429000"/>
            <a:ext cx="3638520" cy="1461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60958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>
            <a:off x="5486040" y="29718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2286000"/>
            <a:ext cx="18288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981080" y="1981080"/>
            <a:ext cx="1054080" cy="1066680"/>
            <a:chOff x="1981080" y="1981080"/>
            <a:chExt cx="1054080" cy="1066680"/>
          </a:xfrm>
        </p:grpSpPr>
        <p:pic>
          <p:nvPicPr>
            <p:cNvPr id="201" name="" descr=""/>
            <p:cNvPicPr/>
            <p:nvPr/>
          </p:nvPicPr>
          <p:blipFill>
            <a:blip r:embed="rId7"/>
            <a:stretch/>
          </p:blipFill>
          <p:spPr>
            <a:xfrm>
              <a:off x="198108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maracas" descr=""/>
            <p:cNvPicPr/>
            <p:nvPr/>
          </p:nvPicPr>
          <p:blipFill>
            <a:blip r:embed="rId8"/>
            <a:stretch/>
          </p:blipFill>
          <p:spPr>
            <a:xfrm>
              <a:off x="259056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324480" y="2286000"/>
            <a:ext cx="8049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3060720" y="1981080"/>
            <a:ext cx="1054080" cy="1066680"/>
            <a:chOff x="3060720" y="1981080"/>
            <a:chExt cx="1054080" cy="1066680"/>
          </a:xfrm>
        </p:grpSpPr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306072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maracas" descr=""/>
            <p:cNvPicPr/>
            <p:nvPr/>
          </p:nvPicPr>
          <p:blipFill>
            <a:blip r:embed="rId11"/>
            <a:stretch/>
          </p:blipFill>
          <p:spPr>
            <a:xfrm>
              <a:off x="367020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609480" y="3276720"/>
            <a:ext cx="1054080" cy="1066680"/>
            <a:chOff x="609480" y="3276720"/>
            <a:chExt cx="1054080" cy="1066680"/>
          </a:xfrm>
        </p:grpSpPr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609480" y="327672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maracas" descr=""/>
            <p:cNvPicPr/>
            <p:nvPr/>
          </p:nvPicPr>
          <p:blipFill>
            <a:blip r:embed="rId13"/>
            <a:stretch/>
          </p:blipFill>
          <p:spPr>
            <a:xfrm>
              <a:off x="1218960" y="358128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5423040" y="4952880"/>
            <a:ext cx="1054080" cy="1066680"/>
            <a:chOff x="5423040" y="4952880"/>
            <a:chExt cx="1054080" cy="1066680"/>
          </a:xfrm>
        </p:grpSpPr>
        <p:pic>
          <p:nvPicPr>
            <p:cNvPr id="211" name="" descr=""/>
            <p:cNvPicPr/>
            <p:nvPr/>
          </p:nvPicPr>
          <p:blipFill>
            <a:blip r:embed="rId14"/>
            <a:stretch/>
          </p:blipFill>
          <p:spPr>
            <a:xfrm>
              <a:off x="5423040" y="49528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maracas" descr=""/>
            <p:cNvPicPr/>
            <p:nvPr/>
          </p:nvPicPr>
          <p:blipFill>
            <a:blip r:embed="rId15"/>
            <a:stretch/>
          </p:blipFill>
          <p:spPr>
            <a:xfrm>
              <a:off x="6032520" y="52574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4191120" y="3124080"/>
            <a:ext cx="1129320" cy="1066680"/>
            <a:chOff x="4191120" y="3124080"/>
            <a:chExt cx="1129320" cy="1066680"/>
          </a:xfrm>
        </p:grpSpPr>
        <p:pic>
          <p:nvPicPr>
            <p:cNvPr id="214" name="" descr=""/>
            <p:cNvPicPr/>
            <p:nvPr/>
          </p:nvPicPr>
          <p:blipFill>
            <a:blip r:embed="rId16"/>
            <a:stretch/>
          </p:blipFill>
          <p:spPr>
            <a:xfrm>
              <a:off x="4191120" y="3124080"/>
              <a:ext cx="8625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maracas" descr=""/>
            <p:cNvPicPr/>
            <p:nvPr/>
          </p:nvPicPr>
          <p:blipFill>
            <a:blip r:embed="rId17"/>
            <a:stretch/>
          </p:blipFill>
          <p:spPr>
            <a:xfrm>
              <a:off x="4844160" y="3428640"/>
              <a:ext cx="4762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209520" y="5730840"/>
            <a:ext cx="2228760" cy="82224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8"/>
          <a:stretch/>
        </p:blipFill>
        <p:spPr>
          <a:xfrm>
            <a:off x="3124080" y="5410080"/>
            <a:ext cx="12319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domaine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on de domaine NT intéress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simple mais lou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à distance diffic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de Windows 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 d’un réseau Windows 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lternatives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ésentation de Windows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ints for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vivi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ui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pa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ints Fa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ésentation Windows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Gestion par bases de regi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tocole natif Netb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no utilis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d’un réseau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62280" y="3414600"/>
            <a:ext cx="3638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410080"/>
            <a:ext cx="2228760" cy="82260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124080" y="5280120"/>
            <a:ext cx="1231920" cy="609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60436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5867280" y="1981080"/>
            <a:ext cx="648000" cy="1041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5486040" y="31240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81080"/>
            <a:ext cx="16761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3747960"/>
            <a:ext cx="2057400" cy="29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7550280" y="2590920"/>
            <a:ext cx="647640" cy="1039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6400800" y="3276720"/>
            <a:ext cx="9907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stion des utilisateurs : A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cri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m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tc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stion des utilisateurs : Grou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e globa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ent des utilis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e local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ent des utilis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ent des groupes glob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 au doma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estion multi-doma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6280" y="3124080"/>
            <a:ext cx="2495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52520" y="335268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4876920"/>
            <a:ext cx="2133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OMAI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43560" y="3124080"/>
            <a:ext cx="2495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219800" y="3352680"/>
            <a:ext cx="648000" cy="1040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53080" y="4876920"/>
            <a:ext cx="2133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OMAIN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3657600"/>
            <a:ext cx="3124440" cy="685800"/>
          </a:xfrm>
          <a:prstGeom prst="rightArrow">
            <a:avLst>
              <a:gd name="adj1" fmla="val 50000"/>
              <a:gd name="adj2" fmla="val 113898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048120" y="3657600"/>
            <a:ext cx="3124080" cy="685800"/>
          </a:xfrm>
          <a:prstGeom prst="rightArrow">
            <a:avLst>
              <a:gd name="adj1" fmla="val 50000"/>
              <a:gd name="adj2" fmla="val 113885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3657600"/>
            <a:ext cx="3276720" cy="685800"/>
          </a:xfrm>
          <a:prstGeom prst="leftRightArrow">
            <a:avLst>
              <a:gd name="adj1" fmla="val 50000"/>
              <a:gd name="adj2" fmla="val 95116"/>
            </a:avLst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895480"/>
            <a:ext cx="32004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PPROBATION UNIDIREC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895480"/>
            <a:ext cx="32004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PPROBATION BIDIREC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sertion de Lin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62280" y="3414600"/>
            <a:ext cx="3638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730840"/>
            <a:ext cx="2228760" cy="82224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124080" y="5562720"/>
            <a:ext cx="123192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3262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867280" y="1981080"/>
            <a:ext cx="648000" cy="104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H="1">
            <a:off x="5486040" y="31240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1981080"/>
            <a:ext cx="16761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747960"/>
            <a:ext cx="2057400" cy="29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550280" y="2590920"/>
            <a:ext cx="647640" cy="1039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6400800" y="3276720"/>
            <a:ext cx="9907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5824440" y="1981080"/>
            <a:ext cx="804960" cy="1067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7424640" y="2590920"/>
            <a:ext cx="8049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7:04:03Z</dcterms:created>
  <dc:creator>VALLON David</dc:creator>
  <dc:description/>
  <dc:language>en-US</dc:language>
  <cp:lastModifiedBy>VALLON David</cp:lastModifiedBy>
  <dcterms:modified xsi:type="dcterms:W3CDTF">2002-09-25T07:50:44Z</dcterms:modified>
  <cp:revision>2</cp:revision>
  <dc:subject/>
  <dc:title>Administration Windows NT et alternatives Linux</dc:title>
</cp:coreProperties>
</file>