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1.wmf" ContentType="image/x-wmf"/>
  <Override PartName="/ppt/media/image3.png" ContentType="image/png"/>
  <Override PartName="/ppt/media/image16.png" ContentType="image/png"/>
  <Override PartName="/ppt/media/image15.wmf" ContentType="image/x-wmf"/>
  <Override PartName="/ppt/media/image1.jpeg" ContentType="image/jpeg"/>
  <Override PartName="/ppt/media/image2.wmf" ContentType="image/x-wmf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4.jpeg" ContentType="image/jpeg"/>
  <Override PartName="/ppt/media/image7.wmf" ContentType="image/x-wmf"/>
  <Override PartName="/ppt/media/image8.png" ContentType="image/png"/>
  <Override PartName="/ppt/media/image12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765BD-CCC5-40AC-BD4D-8E450E6C7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556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04760" y="4802040"/>
            <a:ext cx="556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5271C-7357-422E-83D9-D05C19BE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5240" y="388620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04760" y="480204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5240" y="480204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F4011-371A-4553-8C68-D1884040E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179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85760" y="3886200"/>
            <a:ext cx="179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66760" y="3886200"/>
            <a:ext cx="179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04760" y="4802040"/>
            <a:ext cx="179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85760" y="4802040"/>
            <a:ext cx="179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66760" y="4802040"/>
            <a:ext cx="179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875E5-C7B2-467F-96F6-A40220B0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D8DF-088A-40B1-9373-8F00AAA17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904760" y="3886200"/>
            <a:ext cx="5562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5A3A-4998-47E7-8FF7-7FFC35DB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556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753E-B310-4C68-A413-72BA2553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2714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5240" y="3886200"/>
            <a:ext cx="2714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4261-83FD-4362-A3B2-3F06522B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A32A-2CB3-43CF-8AF7-89B59831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904760" y="220932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3C8F-DCE9-491F-BC7F-A3EF1051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5240" y="3886200"/>
            <a:ext cx="2714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904760" y="480204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7D47-DACE-4C42-BD76-71C3F577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04760" y="3886200"/>
            <a:ext cx="5562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33AAD-1F36-44AB-AC55-A42EDE91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2714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5240" y="388620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55240" y="480204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8475-8B83-4A96-91E4-0F706FC3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5240" y="388620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904760" y="4802040"/>
            <a:ext cx="556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76E5-1F40-4C12-A94F-DDBACB64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556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904760" y="4802040"/>
            <a:ext cx="556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EA8B-6F29-417F-82D5-2686D1FB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5240" y="388620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904760" y="480204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55240" y="480204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8A9F-0669-4C27-96D0-1F61D4FBF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179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85760" y="3886200"/>
            <a:ext cx="179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66760" y="3886200"/>
            <a:ext cx="179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904760" y="4802040"/>
            <a:ext cx="179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85760" y="4802040"/>
            <a:ext cx="179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66760" y="4802040"/>
            <a:ext cx="179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5B2E-B3A6-4C4B-85EE-227DE83FC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556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579A9-F202-4FE7-9063-CF0FCB8B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2714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5240" y="3886200"/>
            <a:ext cx="2714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9A799-ED4E-4AFB-AD9E-A100F5B7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0C8F6-C1ED-41A0-9E6B-51FA686C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04760" y="220932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C3F53-D6BE-425E-92FA-31815DA5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5240" y="3886200"/>
            <a:ext cx="2714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04760" y="480204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43FD6-29D2-4F80-900C-23C3683E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2714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5240" y="388620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5240" y="480204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8822B-F533-4EEA-85A9-B7F560D0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5240" y="388620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04760" y="4802040"/>
            <a:ext cx="556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819BD-DB8C-44B9-83C6-0006D689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447560"/>
            <a:ext cx="6934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477120"/>
            <a:ext cx="2743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8B61-8A9E-4B0E-91D9-13567EA19085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685800" y="762120"/>
            <a:ext cx="6858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312552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Fond2" descr=""/>
          <p:cNvPicPr/>
          <p:nvPr/>
        </p:nvPicPr>
        <p:blipFill>
          <a:blip r:embed="rId2"/>
          <a:stretch/>
        </p:blipFill>
        <p:spPr>
          <a:xfrm>
            <a:off x="533520" y="1905120"/>
            <a:ext cx="8458200" cy="3962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552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60BA-E5FD-4570-9D0A-6BE6D9050FF4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1905120" y="2743200"/>
            <a:ext cx="72388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2133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18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560" y="5638680"/>
            <a:ext cx="7391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abrice AGU - IR200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002-200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52480" y="1600200"/>
            <a:ext cx="6553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800000"/>
                </a:solidFill>
                <a:latin typeface="Arial"/>
              </a:rPr>
              <a:t>Serveurs d’application web pour ja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70F2-16E1-4BC6-B657-FB85B1DD681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00000"/>
                </a:solidFill>
                <a:latin typeface="Arial"/>
              </a:rPr>
              <a:t>Java Server Page (JSP)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1536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élange de code HTML et de Jav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ansformé en HTML par le serveur d’applicatio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3520" y="3429000"/>
          <a:ext cx="8057880" cy="202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429000"/>
                    <a:ext cx="8057880" cy="20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30FED-75C9-4E12-9E43-ECF2BF00AF6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00000"/>
                </a:solidFill>
                <a:latin typeface="Arial"/>
              </a:rPr>
              <a:t>Java Server Page (JSP) - Exempl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5" name="exempleCodeJSP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876312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C4C0A-A3A8-4422-950C-E41B248D37E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odules Java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295280" y="2514600"/>
          <a:ext cx="5334120" cy="36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514600"/>
                    <a:ext cx="5334120" cy="36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Génériques, réutilisables, maintenance facil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S’ajoutent simplement au sein d’un sit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2BDB8-39FA-47F3-9FE9-A24DF08E00F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odule Java – Exemple : Castor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838080"/>
            <a:ext cx="7620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But : supprimer toutes requêtes SQ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Pooling de connexions (groupes de connexions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Cach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2438280"/>
          <a:ext cx="566280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438280"/>
                    <a:ext cx="56628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09480" y="5791320"/>
            <a:ext cx="6934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Mapping de la BDD (format X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B30AB-4160-4C03-94BC-B6E9A52549B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anorama de quelque AS pour Java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7924680" cy="3222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864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3064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55CA2-FAE7-4886-8EC5-326DB02ACA1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omparatifs des principaux A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AS testés : WebLogic, WebSphere, JRun, JBos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Points soulevés 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Compatibilité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Pérennité / Référenc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Richesse fonctionnell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Coû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52022-748A-4B30-81DB-9BD6450E53A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omparatifs –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Compatibilité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09480" y="1447920"/>
          <a:ext cx="7496280" cy="2374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749628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Système d’exploitatio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4267080"/>
            <a:ext cx="7696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BDD reconnue par JD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4800600"/>
            <a:ext cx="7696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Norme JSP 1.0 et 1.1 / Jav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CF03D-C6FE-446B-8138-75ECD217D52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omparatifs – Pérennité / référence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6934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Outils :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Doit représenter l'offre leader de l'éditeur.</a:t>
            </a: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Editeur :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Taille importante et ne pas être en position de se faire racheter / DCP / RJ / LJ</a:t>
            </a: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6553440" cy="362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A8B80-C5B9-41CC-A709-8DCA6E5D713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omparatifs -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Richesse fonctionnell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nctions supplémentaires, monté en charge, facilité d’utilisation,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62120" y="2286000"/>
          <a:ext cx="6933960" cy="383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0"/>
                    <a:ext cx="693396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2C197-063E-4A3B-A826-DB738EC605F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omparatif - Coût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09480" y="1371600"/>
          <a:ext cx="7872480" cy="362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7872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B5F3E-1C51-495A-AF6D-64CAA8B5E12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lan de la présentation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A quoi ça sert 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Qu’est-ce que c’est 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Pourquoi Java 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Java Server Pag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Panorama de quelques Serveurs d’application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Conclusio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FB419-100B-4FB7-9D43-D3ECEC7B3E4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Démonstration…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48" name="Concole%20Was%20PPT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772400" cy="55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2C3BB-AA53-4B7A-9505-606BA0A04C6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 dédié Java : site Internet de grande envergure (rapidité, coût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s logiciels libres et/ou gratuits n’ont pas encore leur place dans ce domain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E3D96-EB35-4A7B-B726-77830D0E9CD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2133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18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205740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Question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8367-BF26-4F02-A979-2EC8783CCAB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A quoi ça sert ?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Besoins sur Internet / Intranet / Extranet 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Communiquer avec des bases de données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Consulter des web services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Effectuer des recherches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Solution 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Site dynamique (Google, leMonde.fr, Météo France, SNCF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Utilisation d’un serveur d’application web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8BA70-C1FB-45D7-9938-4D310C9915F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00000"/>
                </a:solidFill>
                <a:latin typeface="Arial"/>
              </a:rPr>
              <a:t>Qu’est-ce qu’un Serveur d’application web ?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Logici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Situé entre le navigateur web et le back-office (scripts, bases de données, …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Définition :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Un environnement de l'architecture qui fournit les briques techniques nécessaires à l'exécution d'applications web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ATTENTION : APACHE N’EST PAS UN SERVEUR D’APPLICATIO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3C97B-378D-4255-A442-94286D2975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Structure d’un serveur Internet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04920" y="914400"/>
          <a:ext cx="8381880" cy="542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8381880" cy="54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056ED-2723-4065-A069-9C14DE903A1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Fonctionnalités attendue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1536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Le support des plates-formes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(Unix, Windows, …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La répartition de charges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(multiprocess, clustering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La reprise sur incident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(watchdog, redirection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Le pooling de connexions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(montée en charge, Castor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L'ouverture vers l'existant, le respect des standards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(Serveur HTTP, BDD, ERP, XML, …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La gestion de contexte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(sessions internautes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La sécurité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L'administration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 (interfaces, facilité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La productivité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(time-to-market, outils supplémentaires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CE93B-DE94-45FB-98F6-377CA363D32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Architectur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2" name="archi%20-%209iAS" descr=""/>
          <p:cNvPicPr/>
          <p:nvPr/>
        </p:nvPicPr>
        <p:blipFill>
          <a:blip r:embed="rId1"/>
          <a:stretch/>
        </p:blipFill>
        <p:spPr>
          <a:xfrm>
            <a:off x="152280" y="3352680"/>
            <a:ext cx="3886200" cy="29498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utes ces fonctionnalités impliquent une architecture !!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ous les Serveurs d’application (AS) ont une architectur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4" name="archi%20-%20jboss4" descr=""/>
          <p:cNvPicPr/>
          <p:nvPr/>
        </p:nvPicPr>
        <p:blipFill>
          <a:blip r:embed="rId2"/>
          <a:stretch/>
        </p:blipFill>
        <p:spPr>
          <a:xfrm>
            <a:off x="5181480" y="37339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105" name="archi%20-%20general" descr=""/>
          <p:cNvPicPr/>
          <p:nvPr/>
        </p:nvPicPr>
        <p:blipFill>
          <a:blip r:embed="rId3"/>
          <a:stretch/>
        </p:blipFill>
        <p:spPr>
          <a:xfrm>
            <a:off x="2590920" y="2666880"/>
            <a:ext cx="3352680" cy="199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4741C-1981-4A5E-BC70-65FD5CE9B1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harges - Nombre de Connexion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7" name="websphere%20workload%20example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153640" cy="559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C6E47-742A-40A8-9F1D-E1E74074A74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Pourquoi Java ?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6934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Programmation orienté obje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Réutilisation des composants, répartition modulai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Développement simple, rapid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Multiplateform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Unix, Linux, Windows,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Rapidité d’exécutio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Forte pérennité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=&gt; JSP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42B1D-73BF-4ECB-94BE-3DC6A1CA38F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3T16:31:28Z</dcterms:created>
  <dc:creator>Fabrice AGU</dc:creator>
  <dc:description/>
  <dc:language>en-US</dc:language>
  <cp:lastModifiedBy>fagu</cp:lastModifiedBy>
  <dcterms:modified xsi:type="dcterms:W3CDTF">2002-10-23T21:18:24Z</dcterms:modified>
  <cp:revision>317</cp:revision>
  <dc:subject>Serveurs d'application web pour java</dc:subject>
  <dc:title>Serveurs d'application web pour java</dc:title>
</cp:coreProperties>
</file>